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3142800" y="515520"/>
            <a:ext cx="373068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1001880" y="3270240"/>
            <a:ext cx="8015040" cy="309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EBC4DCB-F05C-407A-886A-F4A3201B9859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39BEC89-22C1-4682-89F4-C7FFC48D6676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C3FC6BA-6187-491C-ACAE-C1620B9AB1A8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007868F-F660-47CE-8594-33C01B63EE2F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B67D1F1-EE29-42C3-8FAD-9964114FBD62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646963A-1889-4EC4-B5A4-261A85A95048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20E713A-685A-4694-807C-B066C18FE965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B3AE0EC-EEEC-4AB0-B618-89FCC3F9C959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300FFDC-680F-496D-98B1-40929886D0DD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42078D1-F7EE-4DC8-AA90-7E6CF96AF76F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FBE6EDB-7622-4615-BC3E-8F614905ED94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BE42687-D46A-4769-81D3-96FFF7145C06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5ADE63E-141E-4219-BC31-27B28A9BC3DF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0F4C9E5-E129-4581-AB97-4E174F47B2E9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48452F2-DA3B-4E75-9BF4-81252C2F92C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75B40BD-9316-44B9-91C0-ECC7C8F299EA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A3781CE-93F7-4F49-A083-3F9CAEA5F3EB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AC8AC8A-FE64-4D7A-9503-123587311546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A30-5109-4933-B862-DA6864A6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F15-4722-4105-BD74-27D6AB7F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B3B-93C9-4A75-AA3E-83861EF2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BB0-5FAF-4A0B-B543-4C6F586C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F952-9416-4FCC-9633-42123AD4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1502-F20B-4121-AA00-ECE6C8F7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0CF4-3A82-4A00-8275-AF3C2878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E7FA-29D8-4B32-8DD4-AA79C084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AB83-18F2-448F-ADB6-46CFE571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8587-DD3D-441E-A6A6-B1129309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2677-1F39-45CD-A1B9-4A706910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E65-DED8-4230-8C76-54BA4221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8EBB-EA9C-4EBD-8EA6-E3A11472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15CA-159B-4040-A564-17F30085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3161-D074-41BF-A6AA-AC166E53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6A0D-CFD7-49C8-90CC-94EABFCB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1DB4-5176-4AF7-9010-AE3C3750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F674-305A-4DA1-A53F-358A6D94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175F-62C7-44EB-96BE-3F6BAE6A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D07-1287-4621-9157-DCDAD955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28FF-1D73-4001-9273-40AAFB5F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E2F-148F-48B1-ADE1-D61E9DD1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2D9-14E8-454D-9051-D79B69E7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F05-7FCB-48C9-8169-08F763AD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694C-6CFA-4F34-A5F4-F60EC827EB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313E-64D9-4F4D-963F-C4282C102F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20480" y="342900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odule Nr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Local market analysis and detecting  opportunities for social entrepreneu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at lo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g. 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eptember 20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rot="5400000">
            <a:off x="3470760" y="-159480"/>
            <a:ext cx="1155960" cy="4631040"/>
          </a:xfrm>
          <a:prstGeom prst="cube">
            <a:avLst>
              <a:gd name="adj" fmla="val 13583"/>
            </a:avLst>
          </a:prstGeom>
          <a:solidFill>
            <a:srgbClr val="00cc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voj novi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ih idej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razdelane alternati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e koncep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519440" y="1453680"/>
            <a:ext cx="1058760" cy="4761000"/>
          </a:xfrm>
          <a:prstGeom prst="cube">
            <a:avLst>
              <a:gd name="adj" fmla="val 13583"/>
            </a:avLst>
          </a:prstGeom>
          <a:solidFill>
            <a:srgbClr val="ff9900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Testiranje konceptov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estiranje konceptov n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orit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pri skupinah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5941440" y="3163680"/>
            <a:ext cx="1030320" cy="4630680"/>
          </a:xfrm>
          <a:prstGeom prst="cube">
            <a:avLst>
              <a:gd name="adj" fmla="val 13583"/>
            </a:avLst>
          </a:prstGeom>
          <a:solidFill>
            <a:srgbClr val="ccccff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zbor tistega koncepta, 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jmočneje nagovarja cilj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u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735440" y="2469960"/>
            <a:ext cx="641520" cy="108288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rot="16200000">
            <a:off x="5997240" y="4140720"/>
            <a:ext cx="723960" cy="10782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0040" y="33480"/>
            <a:ext cx="87678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in testiranje koncep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H="1">
            <a:off x="2305080" y="3681360"/>
            <a:ext cx="5060880" cy="161280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50000">
                <a:srgbClr val="4bcbbf"/>
              </a:gs>
              <a:gs pos="100000">
                <a:srgbClr val="00b7a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rugi del opisuje kratk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ceno izdelka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peč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enjski prorač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304360" y="5345280"/>
            <a:ext cx="5095800" cy="112536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50000">
                <a:srgbClr val="dc459c"/>
              </a:gs>
              <a:gs pos="100000">
                <a:srgbClr val="d93192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Tretji del opisuje dolg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rategijo trženjskega sp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20880" y="1285920"/>
            <a:ext cx="8319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3530"/>
                </a:solidFill>
                <a:latin typeface="Arial"/>
              </a:rPr>
              <a:t>Oblikovanje izjave o trženjski strategij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89240" y="2101680"/>
            <a:ext cx="5060880" cy="15465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vi del splošno opisuj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ni t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pozicioniranje izd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ni dele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5360" y="33480"/>
            <a:ext cx="885528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trženjske strateg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30040" y="33480"/>
            <a:ext cx="9098280" cy="14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Razvoj izdelk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4042080" y="-1596240"/>
            <a:ext cx="1971720" cy="880596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b760f9"/>
              </a:gs>
              <a:gs pos="100000">
                <a:srgbClr val="c47ff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gled prodaje izdelka, stroškov in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jekcij dobička z namenom ugotovi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ali zadovoljujejo cilje podjetj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6414120" y="3424680"/>
            <a:ext cx="943200" cy="5052960"/>
          </a:xfrm>
          <a:prstGeom prst="cube">
            <a:avLst>
              <a:gd name="adj" fmla="val 16027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da,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mik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 izdelk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rot="16200000">
            <a:off x="6440040" y="4377600"/>
            <a:ext cx="1614600" cy="523800"/>
          </a:xfrm>
          <a:prstGeom prst="rightArrow">
            <a:avLst>
              <a:gd name="adj1" fmla="val 50000"/>
              <a:gd name="adj2" fmla="val 154280"/>
            </a:avLst>
          </a:prstGeom>
          <a:gradFill rotWithShape="0">
            <a:gsLst>
              <a:gs pos="0">
                <a:srgbClr val="676767"/>
              </a:gs>
              <a:gs pos="100000">
                <a:srgbClr val="3d3d3d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1892160" y="2962080"/>
            <a:ext cx="942840" cy="3625920"/>
          </a:xfrm>
          <a:prstGeom prst="cube">
            <a:avLst>
              <a:gd name="adj" fmla="val 1602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ne, izključitev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čnega koncep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16200000">
            <a:off x="2499480" y="3813840"/>
            <a:ext cx="453960" cy="5256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676767"/>
              </a:gs>
              <a:gs pos="100000">
                <a:srgbClr val="333333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408480" y="5583240"/>
            <a:ext cx="1363680" cy="650520"/>
            <a:chOff x="3408480" y="5583240"/>
            <a:chExt cx="1363680" cy="650520"/>
          </a:xfrm>
        </p:grpSpPr>
        <p:sp>
          <p:nvSpPr>
            <p:cNvPr id="213" name=""/>
            <p:cNvSpPr/>
            <p:nvPr/>
          </p:nvSpPr>
          <p:spPr>
            <a:xfrm>
              <a:off x="3450600" y="5583240"/>
              <a:ext cx="1253880" cy="18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08480" y="6159600"/>
              <a:ext cx="1363680" cy="74160"/>
            </a:xfrm>
            <a:custGeom>
              <a:avLst/>
              <a:gdLst/>
              <a:ahLst/>
              <a:rect l="l" t="t" r="r" b="b"/>
              <a:pathLst>
                <a:path w="873" h="53">
                  <a:moveTo>
                    <a:pt x="0" y="0"/>
                  </a:moveTo>
                  <a:lnTo>
                    <a:pt x="872" y="0"/>
                  </a:lnTo>
                  <a:lnTo>
                    <a:pt x="844" y="25"/>
                  </a:lnTo>
                  <a:lnTo>
                    <a:pt x="844" y="52"/>
                  </a:lnTo>
                  <a:lnTo>
                    <a:pt x="30" y="52"/>
                  </a:lnTo>
                  <a:lnTo>
                    <a:pt x="30" y="25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17840" y="5620680"/>
              <a:ext cx="1330560" cy="33840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09920" y="5958360"/>
              <a:ext cx="1346040" cy="1875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09920" y="5640480"/>
              <a:ext cx="1346040" cy="281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09920" y="5607000"/>
              <a:ext cx="1346040" cy="6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9920" y="5935680"/>
              <a:ext cx="848160" cy="201240"/>
            </a:xfrm>
            <a:custGeom>
              <a:avLst/>
              <a:gdLst/>
              <a:ahLst/>
              <a:rect l="l" t="t" r="r" b="b"/>
              <a:pathLst>
                <a:path w="543" h="144">
                  <a:moveTo>
                    <a:pt x="542" y="22"/>
                  </a:moveTo>
                  <a:lnTo>
                    <a:pt x="516" y="22"/>
                  </a:lnTo>
                  <a:lnTo>
                    <a:pt x="516" y="0"/>
                  </a:lnTo>
                  <a:lnTo>
                    <a:pt x="25" y="0"/>
                  </a:lnTo>
                  <a:lnTo>
                    <a:pt x="25" y="22"/>
                  </a:lnTo>
                  <a:lnTo>
                    <a:pt x="0" y="22"/>
                  </a:lnTo>
                  <a:lnTo>
                    <a:pt x="0" y="143"/>
                  </a:lnTo>
                  <a:lnTo>
                    <a:pt x="542" y="143"/>
                  </a:lnTo>
                  <a:lnTo>
                    <a:pt x="542" y="22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9920" y="5802840"/>
              <a:ext cx="848160" cy="137160"/>
            </a:xfrm>
            <a:custGeom>
              <a:avLst/>
              <a:gdLst/>
              <a:ahLst/>
              <a:rect l="l" t="t" r="r" b="b"/>
              <a:pathLst>
                <a:path w="543" h="98">
                  <a:moveTo>
                    <a:pt x="542" y="97"/>
                  </a:moveTo>
                  <a:lnTo>
                    <a:pt x="0" y="97"/>
                  </a:lnTo>
                  <a:lnTo>
                    <a:pt x="0" y="0"/>
                  </a:lnTo>
                  <a:lnTo>
                    <a:pt x="542" y="0"/>
                  </a:lnTo>
                  <a:lnTo>
                    <a:pt x="542" y="9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88200" y="6075720"/>
              <a:ext cx="9000" cy="223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692880" y="5990400"/>
              <a:ext cx="810360" cy="96120"/>
              <a:chOff x="3692880" y="5990400"/>
              <a:chExt cx="810360" cy="961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731760" y="6032160"/>
                <a:ext cx="727560" cy="54360"/>
                <a:chOff x="3731760" y="6032160"/>
                <a:chExt cx="727560" cy="543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731760" y="6032160"/>
                  <a:ext cx="727560" cy="54360"/>
                </a:xfrm>
                <a:custGeom>
                  <a:avLst/>
                  <a:gdLst/>
                  <a:ahLst/>
                  <a:rect l="l" t="t" r="r" b="b"/>
                  <a:pathLst>
                    <a:path w="466" h="39">
                      <a:moveTo>
                        <a:pt x="0" y="0"/>
                      </a:moveTo>
                      <a:lnTo>
                        <a:pt x="465" y="0"/>
                      </a:lnTo>
                      <a:lnTo>
                        <a:pt x="465" y="38"/>
                      </a:lnTo>
                      <a:lnTo>
                        <a:pt x="0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94040" y="6062760"/>
                  <a:ext cx="295200" cy="10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3692880" y="5990400"/>
                <a:ext cx="810360" cy="59760"/>
                <a:chOff x="3692880" y="5990400"/>
                <a:chExt cx="810360" cy="59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692880" y="5990400"/>
                  <a:ext cx="810360" cy="46080"/>
                </a:xfrm>
                <a:custGeom>
                  <a:avLst/>
                  <a:gdLst/>
                  <a:ahLst/>
                  <a:rect l="l" t="t" r="r" b="b"/>
                  <a:pathLst>
                    <a:path w="519" h="33">
                      <a:moveTo>
                        <a:pt x="0" y="0"/>
                      </a:moveTo>
                      <a:lnTo>
                        <a:pt x="518" y="0"/>
                      </a:lnTo>
                      <a:lnTo>
                        <a:pt x="518" y="3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703680" y="60393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490640" y="604224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"/>
            <p:cNvSpPr/>
            <p:nvPr/>
          </p:nvSpPr>
          <p:spPr>
            <a:xfrm>
              <a:off x="3727080" y="5950080"/>
              <a:ext cx="736920" cy="20880"/>
            </a:xfrm>
            <a:custGeom>
              <a:avLst/>
              <a:gdLst/>
              <a:ahLst/>
              <a:rect l="l" t="t" r="r" b="b"/>
              <a:pathLst>
                <a:path w="472" h="15">
                  <a:moveTo>
                    <a:pt x="0" y="0"/>
                  </a:moveTo>
                  <a:lnTo>
                    <a:pt x="471" y="0"/>
                  </a:lnTo>
                  <a:lnTo>
                    <a:pt x="471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5120" y="5973480"/>
              <a:ext cx="784080" cy="8280"/>
            </a:xfrm>
            <a:custGeom>
              <a:avLst/>
              <a:gdLst/>
              <a:ahLst/>
              <a:rect l="l" t="t" r="r" b="b"/>
              <a:pathLst>
                <a:path w="502" h="6">
                  <a:moveTo>
                    <a:pt x="0" y="5"/>
                  </a:moveTo>
                  <a:lnTo>
                    <a:pt x="501" y="5"/>
                  </a:lnTo>
                  <a:lnTo>
                    <a:pt x="501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84680" y="5874120"/>
              <a:ext cx="630720" cy="16560"/>
            </a:xfrm>
            <a:custGeom>
              <a:avLst/>
              <a:gdLst/>
              <a:ahLst/>
              <a:rect l="l" t="t" r="r" b="b"/>
              <a:pathLst>
                <a:path w="404" h="12">
                  <a:moveTo>
                    <a:pt x="0" y="0"/>
                  </a:moveTo>
                  <a:lnTo>
                    <a:pt x="403" y="0"/>
                  </a:lnTo>
                  <a:lnTo>
                    <a:pt x="403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11600" y="5818320"/>
              <a:ext cx="1872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11" y="0"/>
                  </a:lnTo>
                  <a:lnTo>
                    <a:pt x="11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75160" y="5818320"/>
              <a:ext cx="21960" cy="334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3" y="0"/>
                  </a:ln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758400" y="5819400"/>
              <a:ext cx="685440" cy="45720"/>
              <a:chOff x="3758400" y="5819400"/>
              <a:chExt cx="685440" cy="45720"/>
            </a:xfrm>
          </p:grpSpPr>
          <p:sp>
            <p:nvSpPr>
              <p:cNvPr id="236" name=""/>
              <p:cNvSpPr/>
              <p:nvPr/>
            </p:nvSpPr>
            <p:spPr>
              <a:xfrm>
                <a:off x="3758400" y="5819400"/>
                <a:ext cx="685440" cy="262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58400" y="5861160"/>
                <a:ext cx="685440" cy="39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698640" y="5867280"/>
              <a:ext cx="30960" cy="13320"/>
              <a:chOff x="3698640" y="5867280"/>
              <a:chExt cx="30960" cy="13320"/>
            </a:xfrm>
          </p:grpSpPr>
          <p:sp>
            <p:nvSpPr>
              <p:cNvPr id="239" name=""/>
              <p:cNvSpPr/>
              <p:nvPr/>
            </p:nvSpPr>
            <p:spPr>
              <a:xfrm>
                <a:off x="370620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98640" y="5867280"/>
                <a:ext cx="2340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473720" y="5867280"/>
              <a:ext cx="25920" cy="13320"/>
              <a:chOff x="4473720" y="5867280"/>
              <a:chExt cx="25920" cy="13320"/>
            </a:xfrm>
          </p:grpSpPr>
          <p:sp>
            <p:nvSpPr>
              <p:cNvPr id="242" name=""/>
              <p:cNvSpPr/>
              <p:nvPr/>
            </p:nvSpPr>
            <p:spPr>
              <a:xfrm>
                <a:off x="447624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73720" y="5867280"/>
                <a:ext cx="1836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480120" y="5660280"/>
              <a:ext cx="1222920" cy="124200"/>
              <a:chOff x="3480120" y="5660280"/>
              <a:chExt cx="1222920" cy="124200"/>
            </a:xfrm>
          </p:grpSpPr>
          <p:sp>
            <p:nvSpPr>
              <p:cNvPr id="245" name=""/>
              <p:cNvSpPr/>
              <p:nvPr/>
            </p:nvSpPr>
            <p:spPr>
              <a:xfrm>
                <a:off x="3480120" y="5766120"/>
                <a:ext cx="1222920" cy="18000"/>
              </a:xfrm>
              <a:custGeom>
                <a:avLst/>
                <a:gdLst/>
                <a:ahLst/>
                <a:rect l="l" t="t" r="r" b="b"/>
                <a:pathLst>
                  <a:path w="783" h="13">
                    <a:moveTo>
                      <a:pt x="0" y="0"/>
                    </a:moveTo>
                    <a:lnTo>
                      <a:pt x="15" y="12"/>
                    </a:lnTo>
                    <a:lnTo>
                      <a:pt x="782" y="12"/>
                    </a:lnTo>
                    <a:lnTo>
                      <a:pt x="77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87200" y="5660280"/>
                <a:ext cx="15480" cy="12420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0"/>
                    </a:moveTo>
                    <a:lnTo>
                      <a:pt x="0" y="76"/>
                    </a:lnTo>
                    <a:lnTo>
                      <a:pt x="9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83000" y="5664240"/>
                <a:ext cx="1188360" cy="86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513240" y="6194520"/>
              <a:ext cx="18720" cy="8280"/>
              <a:chOff x="3513240" y="6194520"/>
              <a:chExt cx="18720" cy="8280"/>
            </a:xfrm>
          </p:grpSpPr>
          <p:sp>
            <p:nvSpPr>
              <p:cNvPr id="249" name=""/>
              <p:cNvSpPr/>
              <p:nvPr/>
            </p:nvSpPr>
            <p:spPr>
              <a:xfrm>
                <a:off x="351324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17560" y="6201000"/>
                <a:ext cx="900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631400" y="6194520"/>
              <a:ext cx="18720" cy="8280"/>
              <a:chOff x="4631400" y="6194520"/>
              <a:chExt cx="18720" cy="8280"/>
            </a:xfrm>
          </p:grpSpPr>
          <p:sp>
            <p:nvSpPr>
              <p:cNvPr id="252" name=""/>
              <p:cNvSpPr/>
              <p:nvPr/>
            </p:nvSpPr>
            <p:spPr>
              <a:xfrm>
                <a:off x="463140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35720" y="6201000"/>
                <a:ext cx="936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514680" y="5675400"/>
              <a:ext cx="1121400" cy="6012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61080" y="5707800"/>
              <a:ext cx="259200" cy="9360"/>
            </a:xfrm>
            <a:custGeom>
              <a:avLst/>
              <a:gdLst/>
              <a:ahLst/>
              <a:rect l="l" t="t" r="r" b="b"/>
              <a:pathLst>
                <a:path w="166" h="7">
                  <a:moveTo>
                    <a:pt x="0" y="0"/>
                  </a:moveTo>
                  <a:lnTo>
                    <a:pt x="165" y="0"/>
                  </a:lnTo>
                  <a:lnTo>
                    <a:pt x="165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92320" y="5695200"/>
              <a:ext cx="0" cy="432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13240" y="5671440"/>
              <a:ext cx="1125720" cy="2520"/>
            </a:xfrm>
            <a:custGeom>
              <a:avLst/>
              <a:gdLst/>
              <a:ahLst/>
              <a:rect l="l" t="t" r="r" b="b"/>
              <a:pathLst>
                <a:path w="721" h="2">
                  <a:moveTo>
                    <a:pt x="0" y="0"/>
                  </a:moveTo>
                  <a:lnTo>
                    <a:pt x="720" y="0"/>
                  </a:lnTo>
                  <a:lnTo>
                    <a:pt x="72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25480" y="5693760"/>
              <a:ext cx="84240" cy="3456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0"/>
                  </a:moveTo>
                  <a:lnTo>
                    <a:pt x="53" y="0"/>
                  </a:lnTo>
                  <a:lnTo>
                    <a:pt x="53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331520" y="5693760"/>
              <a:ext cx="271440" cy="7920"/>
              <a:chOff x="4331520" y="5693760"/>
              <a:chExt cx="271440" cy="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33152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98480" y="569376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90640" y="569376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5940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331520" y="5721840"/>
              <a:ext cx="271440" cy="7920"/>
              <a:chOff x="4331520" y="5721840"/>
              <a:chExt cx="271440" cy="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433152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98480" y="572184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90640" y="572184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5940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8163000" y="5195880"/>
            <a:ext cx="1237680" cy="537480"/>
            <a:chOff x="8163000" y="5195880"/>
            <a:chExt cx="1237680" cy="537480"/>
          </a:xfrm>
        </p:grpSpPr>
        <p:grpSp>
          <p:nvGrpSpPr>
            <p:cNvPr id="270" name=""/>
            <p:cNvGrpSpPr/>
            <p:nvPr/>
          </p:nvGrpSpPr>
          <p:grpSpPr>
            <a:xfrm>
              <a:off x="8163000" y="5195880"/>
              <a:ext cx="1163880" cy="476280"/>
              <a:chOff x="8163000" y="5195880"/>
              <a:chExt cx="1163880" cy="476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8952120" y="5195880"/>
                <a:ext cx="374760" cy="476280"/>
                <a:chOff x="8952120" y="5195880"/>
                <a:chExt cx="374760" cy="47628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8952120" y="5620680"/>
                  <a:ext cx="373320" cy="51480"/>
                  <a:chOff x="8952120" y="5620680"/>
                  <a:chExt cx="373320" cy="5148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8952120" y="5620680"/>
                    <a:ext cx="373320" cy="51480"/>
                    <a:chOff x="8952120" y="5620680"/>
                    <a:chExt cx="373320" cy="514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952120" y="5620680"/>
                      <a:ext cx="37332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8952120" y="5620680"/>
                      <a:ext cx="37332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898956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5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"/>
                <p:cNvSpPr/>
                <p:nvPr/>
              </p:nvSpPr>
              <p:spPr>
                <a:xfrm>
                  <a:off x="8952120" y="5616720"/>
                  <a:ext cx="37332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952120" y="5245920"/>
                  <a:ext cx="374760" cy="387360"/>
                </a:xfrm>
                <a:custGeom>
                  <a:avLst/>
                  <a:gdLst/>
                  <a:ahLst/>
                  <a:rect l="l" t="t" r="r" b="b"/>
                  <a:pathLst>
                    <a:path w="240" h="277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98488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7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8952120" y="5217840"/>
                  <a:ext cx="373320" cy="44280"/>
                  <a:chOff x="8952120" y="5217840"/>
                  <a:chExt cx="373320" cy="442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8952120" y="5223240"/>
                    <a:ext cx="37332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952120" y="5217840"/>
                    <a:ext cx="37332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8952120" y="5214960"/>
                  <a:ext cx="37332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8952120" y="5198400"/>
                  <a:ext cx="374760" cy="36360"/>
                  <a:chOff x="8952120" y="5198400"/>
                  <a:chExt cx="374760" cy="363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8952120" y="5198400"/>
                    <a:ext cx="37332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8952120" y="5211000"/>
                    <a:ext cx="3747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">
                        <a:moveTo>
                          <a:pt x="0" y="0"/>
                        </a:moveTo>
                        <a:lnTo>
                          <a:pt x="239" y="0"/>
                        </a:lnTo>
                        <a:lnTo>
                          <a:pt x="239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8952120" y="5195880"/>
                  <a:ext cx="373320" cy="29160"/>
                  <a:chOff x="8952120" y="5195880"/>
                  <a:chExt cx="373320" cy="291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952120" y="5195880"/>
                    <a:ext cx="373320" cy="29160"/>
                    <a:chOff x="8952120" y="5195880"/>
                    <a:chExt cx="373320" cy="291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8953200" y="5195880"/>
                      <a:ext cx="36540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952120" y="5195880"/>
                      <a:ext cx="37332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>
                    <a:off x="8953200" y="5195880"/>
                    <a:ext cx="36540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898956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9108000" y="5198400"/>
                  <a:ext cx="62280" cy="28080"/>
                  <a:chOff x="9108000" y="5198400"/>
                  <a:chExt cx="62280" cy="2808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9108000" y="5198400"/>
                    <a:ext cx="62280" cy="28080"/>
                    <a:chOff x="9108000" y="5198400"/>
                    <a:chExt cx="62280" cy="28080"/>
                  </a:xfrm>
                </p:grpSpPr>
                <p:grpSp>
                  <p:nvGrpSpPr>
                    <p:cNvPr id="295" name=""/>
                    <p:cNvGrpSpPr/>
                    <p:nvPr/>
                  </p:nvGrpSpPr>
                  <p:grpSpPr>
                    <a:xfrm>
                      <a:off x="9108000" y="5198400"/>
                      <a:ext cx="62280" cy="2520"/>
                      <a:chOff x="9108000" y="5198400"/>
                      <a:chExt cx="62280" cy="2520"/>
                    </a:xfrm>
                  </p:grpSpPr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9108000" y="5198400"/>
                        <a:ext cx="6228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910800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911088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911556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7" y="8"/>
                          </a:lnTo>
                          <a:lnTo>
                            <a:pt x="26" y="8"/>
                          </a:lnTo>
                          <a:lnTo>
                            <a:pt x="33" y="7"/>
                          </a:lnTo>
                          <a:lnTo>
                            <a:pt x="27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9122040" y="5208120"/>
                      <a:ext cx="27720" cy="4320"/>
                      <a:chOff x="9122040" y="5208120"/>
                      <a:chExt cx="27720" cy="432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912204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9126360" y="5210640"/>
                        <a:ext cx="23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912204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4" name=""/>
                    <p:cNvGrpSpPr/>
                    <p:nvPr/>
                  </p:nvGrpSpPr>
                  <p:grpSpPr>
                    <a:xfrm>
                      <a:off x="9117360" y="5220720"/>
                      <a:ext cx="43200" cy="3960"/>
                      <a:chOff x="9117360" y="5220720"/>
                      <a:chExt cx="43200" cy="3960"/>
                    </a:xfrm>
                  </p:grpSpPr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911736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9121680" y="5220720"/>
                        <a:ext cx="3852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7" name=""/>
                  <p:cNvSpPr/>
                  <p:nvPr/>
                </p:nvSpPr>
                <p:spPr>
                  <a:xfrm>
                    <a:off x="9135720" y="5203800"/>
                    <a:ext cx="144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8" name=""/>
              <p:cNvGrpSpPr/>
              <p:nvPr/>
            </p:nvGrpSpPr>
            <p:grpSpPr>
              <a:xfrm>
                <a:off x="8553600" y="5195880"/>
                <a:ext cx="382680" cy="476280"/>
                <a:chOff x="8553600" y="5195880"/>
                <a:chExt cx="382680" cy="4762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8553600" y="5620680"/>
                  <a:ext cx="381240" cy="51480"/>
                  <a:chOff x="8553600" y="5620680"/>
                  <a:chExt cx="381240" cy="51480"/>
                </a:xfrm>
              </p:grpSpPr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8553600" y="5620680"/>
                    <a:ext cx="381240" cy="51480"/>
                    <a:chOff x="8553600" y="5620680"/>
                    <a:chExt cx="381240" cy="5148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8553600" y="5620680"/>
                      <a:ext cx="38124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8553600" y="5620680"/>
                      <a:ext cx="38124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3" name=""/>
                  <p:cNvSpPr/>
                  <p:nvPr/>
                </p:nvSpPr>
                <p:spPr>
                  <a:xfrm>
                    <a:off x="859068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7" y="1"/>
                        </a:lnTo>
                        <a:lnTo>
                          <a:pt x="14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9" y="1"/>
                        </a:lnTo>
                        <a:lnTo>
                          <a:pt x="3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"/>
                <p:cNvSpPr/>
                <p:nvPr/>
              </p:nvSpPr>
              <p:spPr>
                <a:xfrm>
                  <a:off x="8553600" y="5616720"/>
                  <a:ext cx="38124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553600" y="5245920"/>
                  <a:ext cx="382680" cy="387360"/>
                </a:xfrm>
                <a:custGeom>
                  <a:avLst/>
                  <a:gdLst/>
                  <a:ahLst/>
                  <a:rect l="l" t="t" r="r" b="b"/>
                  <a:pathLst>
                    <a:path w="245" h="277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58924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6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9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8553600" y="5217840"/>
                  <a:ext cx="381240" cy="44280"/>
                  <a:chOff x="8553600" y="5217840"/>
                  <a:chExt cx="381240" cy="4428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8553600" y="5223240"/>
                    <a:ext cx="38124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8553600" y="5217840"/>
                    <a:ext cx="38124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8553600" y="5214960"/>
                  <a:ext cx="37620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8553600" y="5198400"/>
                  <a:ext cx="378000" cy="36360"/>
                  <a:chOff x="8553600" y="5198400"/>
                  <a:chExt cx="378000" cy="3636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8553600" y="5198400"/>
                    <a:ext cx="37620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8553600" y="5211000"/>
                    <a:ext cx="3780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">
                        <a:moveTo>
                          <a:pt x="0" y="0"/>
                        </a:moveTo>
                        <a:lnTo>
                          <a:pt x="241" y="0"/>
                        </a:lnTo>
                        <a:lnTo>
                          <a:pt x="24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8553600" y="5195880"/>
                  <a:ext cx="376200" cy="29160"/>
                  <a:chOff x="8553600" y="5195880"/>
                  <a:chExt cx="376200" cy="29160"/>
                </a:xfrm>
              </p:grpSpPr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8553600" y="5195880"/>
                    <a:ext cx="376200" cy="29160"/>
                    <a:chOff x="8553600" y="5195880"/>
                    <a:chExt cx="376200" cy="2916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8559360" y="5195880"/>
                      <a:ext cx="3686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8553600" y="5195880"/>
                      <a:ext cx="37620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8" name=""/>
                  <p:cNvSpPr/>
                  <p:nvPr/>
                </p:nvSpPr>
                <p:spPr>
                  <a:xfrm>
                    <a:off x="8559360" y="5195880"/>
                    <a:ext cx="3686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59068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1"/>
                      </a:lnTo>
                      <a:lnTo>
                        <a:pt x="14" y="1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"/>
                <p:cNvGrpSpPr/>
                <p:nvPr/>
              </p:nvGrpSpPr>
              <p:grpSpPr>
                <a:xfrm>
                  <a:off x="8714160" y="5198400"/>
                  <a:ext cx="59040" cy="28080"/>
                  <a:chOff x="8714160" y="5198400"/>
                  <a:chExt cx="59040" cy="28080"/>
                </a:xfrm>
              </p:grpSpPr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8714160" y="5198400"/>
                    <a:ext cx="59040" cy="28080"/>
                    <a:chOff x="8714160" y="5198400"/>
                    <a:chExt cx="59040" cy="28080"/>
                  </a:xfrm>
                </p:grpSpPr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8714160" y="5198400"/>
                      <a:ext cx="59040" cy="2520"/>
                      <a:chOff x="8714160" y="5198400"/>
                      <a:chExt cx="59040" cy="252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8714160" y="5198400"/>
                        <a:ext cx="590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8714160" y="5198400"/>
                        <a:ext cx="59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8718480" y="5211000"/>
                      <a:ext cx="529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5" y="10"/>
                          </a:lnTo>
                          <a:lnTo>
                            <a:pt x="33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871848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5" y="8"/>
                          </a:lnTo>
                          <a:lnTo>
                            <a:pt x="33" y="7"/>
                          </a:lnTo>
                          <a:lnTo>
                            <a:pt x="30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8727840" y="5208120"/>
                      <a:ext cx="31320" cy="4320"/>
                      <a:chOff x="8727840" y="5208120"/>
                      <a:chExt cx="31320" cy="4320"/>
                    </a:xfrm>
                  </p:grpSpPr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8727840" y="5208120"/>
                        <a:ext cx="313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8724960" y="5220720"/>
                      <a:ext cx="38880" cy="3960"/>
                      <a:chOff x="8724960" y="5220720"/>
                      <a:chExt cx="38880" cy="396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874368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5" name=""/>
              <p:cNvGrpSpPr/>
              <p:nvPr/>
            </p:nvGrpSpPr>
            <p:grpSpPr>
              <a:xfrm>
                <a:off x="8163000" y="5195880"/>
                <a:ext cx="376560" cy="476280"/>
                <a:chOff x="8163000" y="5195880"/>
                <a:chExt cx="376560" cy="47628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8163000" y="5620680"/>
                  <a:ext cx="374760" cy="51480"/>
                  <a:chOff x="8163000" y="5620680"/>
                  <a:chExt cx="374760" cy="51480"/>
                </a:xfrm>
              </p:grpSpPr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8163000" y="5620680"/>
                    <a:ext cx="374760" cy="51480"/>
                    <a:chOff x="8163000" y="5620680"/>
                    <a:chExt cx="374760" cy="5148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8163000" y="5620680"/>
                      <a:ext cx="37476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8163000" y="5620680"/>
                      <a:ext cx="37476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"/>
                  <p:cNvSpPr/>
                  <p:nvPr/>
                </p:nvSpPr>
                <p:spPr>
                  <a:xfrm>
                    <a:off x="820044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" name=""/>
                <p:cNvSpPr/>
                <p:nvPr/>
              </p:nvSpPr>
              <p:spPr>
                <a:xfrm>
                  <a:off x="8163000" y="5616720"/>
                  <a:ext cx="37476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163000" y="5245920"/>
                  <a:ext cx="376560" cy="387360"/>
                </a:xfrm>
                <a:custGeom>
                  <a:avLst/>
                  <a:gdLst/>
                  <a:ahLst/>
                  <a:rect l="l" t="t" r="r" b="b"/>
                  <a:pathLst>
                    <a:path w="241" h="277">
                      <a:moveTo>
                        <a:pt x="0" y="0"/>
                      </a:moveTo>
                      <a:lnTo>
                        <a:pt x="240" y="0"/>
                      </a:lnTo>
                      <a:lnTo>
                        <a:pt x="240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197200" y="5258520"/>
                  <a:ext cx="40680" cy="392760"/>
                </a:xfrm>
                <a:custGeom>
                  <a:avLst/>
                  <a:gdLst/>
                  <a:ahLst/>
                  <a:rect l="l" t="t" r="r" b="b"/>
                  <a:pathLst>
                    <a:path w="26" h="281">
                      <a:moveTo>
                        <a:pt x="0" y="3"/>
                      </a:moveTo>
                      <a:lnTo>
                        <a:pt x="14" y="0"/>
                      </a:lnTo>
                      <a:lnTo>
                        <a:pt x="25" y="3"/>
                      </a:lnTo>
                      <a:lnTo>
                        <a:pt x="25" y="280"/>
                      </a:lnTo>
                      <a:lnTo>
                        <a:pt x="16" y="280"/>
                      </a:lnTo>
                      <a:lnTo>
                        <a:pt x="6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4" name=""/>
                <p:cNvGrpSpPr/>
                <p:nvPr/>
              </p:nvGrpSpPr>
              <p:grpSpPr>
                <a:xfrm>
                  <a:off x="8163000" y="5217840"/>
                  <a:ext cx="374760" cy="44280"/>
                  <a:chOff x="8163000" y="5217840"/>
                  <a:chExt cx="374760" cy="442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8163000" y="5223240"/>
                    <a:ext cx="37476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163000" y="5217840"/>
                    <a:ext cx="37476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8163000" y="5214960"/>
                  <a:ext cx="37476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8163000" y="5198400"/>
                  <a:ext cx="376560" cy="36360"/>
                  <a:chOff x="8163000" y="5198400"/>
                  <a:chExt cx="376560" cy="363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8163000" y="5198400"/>
                    <a:ext cx="37476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163000" y="5211000"/>
                    <a:ext cx="376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2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8163000" y="5195880"/>
                  <a:ext cx="374760" cy="29160"/>
                  <a:chOff x="8163000" y="5195880"/>
                  <a:chExt cx="374760" cy="29160"/>
                </a:xfrm>
              </p:grpSpPr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8163000" y="5195880"/>
                    <a:ext cx="374760" cy="29160"/>
                    <a:chOff x="8163000" y="5195880"/>
                    <a:chExt cx="374760" cy="2916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8164440" y="5195880"/>
                      <a:ext cx="3668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8163000" y="5195880"/>
                      <a:ext cx="37476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"/>
                  <p:cNvSpPr/>
                  <p:nvPr/>
                </p:nvSpPr>
                <p:spPr>
                  <a:xfrm>
                    <a:off x="8164440" y="5195880"/>
                    <a:ext cx="3668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"/>
                <p:cNvSpPr/>
                <p:nvPr/>
              </p:nvSpPr>
              <p:spPr>
                <a:xfrm>
                  <a:off x="820044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8318880" y="5198400"/>
                  <a:ext cx="62640" cy="28080"/>
                  <a:chOff x="8318880" y="5198400"/>
                  <a:chExt cx="62640" cy="28080"/>
                </a:xfrm>
              </p:grpSpPr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8318880" y="5198400"/>
                    <a:ext cx="62640" cy="28080"/>
                    <a:chOff x="8318880" y="5198400"/>
                    <a:chExt cx="62640" cy="28080"/>
                  </a:xfrm>
                </p:grpSpPr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8318880" y="5198400"/>
                      <a:ext cx="62640" cy="2520"/>
                      <a:chOff x="8318880" y="5198400"/>
                      <a:chExt cx="62640" cy="2520"/>
                    </a:xfrm>
                  </p:grpSpPr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8318880" y="5198400"/>
                        <a:ext cx="626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831888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832176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8321760" y="5211000"/>
                      <a:ext cx="5760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9">
                          <a:moveTo>
                            <a:pt x="5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9" y="8"/>
                          </a:lnTo>
                          <a:lnTo>
                            <a:pt x="36" y="7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4" name=""/>
                    <p:cNvGrpSpPr/>
                    <p:nvPr/>
                  </p:nvGrpSpPr>
                  <p:grpSpPr>
                    <a:xfrm>
                      <a:off x="8332920" y="5208120"/>
                      <a:ext cx="27720" cy="4320"/>
                      <a:chOff x="8332920" y="5208120"/>
                      <a:chExt cx="27720" cy="4320"/>
                    </a:xfrm>
                  </p:grpSpPr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833292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8" name=""/>
                    <p:cNvGrpSpPr/>
                    <p:nvPr/>
                  </p:nvGrpSpPr>
                  <p:grpSpPr>
                    <a:xfrm>
                      <a:off x="8328240" y="5220720"/>
                      <a:ext cx="43200" cy="3960"/>
                      <a:chOff x="8328240" y="5220720"/>
                      <a:chExt cx="43200" cy="3960"/>
                    </a:xfrm>
                  </p:grpSpPr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81" name=""/>
                  <p:cNvSpPr/>
                  <p:nvPr/>
                </p:nvSpPr>
                <p:spPr>
                  <a:xfrm>
                    <a:off x="834696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2" name=""/>
            <p:cNvGrpSpPr/>
            <p:nvPr/>
          </p:nvGrpSpPr>
          <p:grpSpPr>
            <a:xfrm>
              <a:off x="8230320" y="5254200"/>
              <a:ext cx="381240" cy="479160"/>
              <a:chOff x="8230320" y="5254200"/>
              <a:chExt cx="381240" cy="4791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8230320" y="5679000"/>
                <a:ext cx="379440" cy="54360"/>
                <a:chOff x="8230320" y="5679000"/>
                <a:chExt cx="379440" cy="5436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8230320" y="5679000"/>
                  <a:ext cx="379440" cy="54360"/>
                  <a:chOff x="8230320" y="5679000"/>
                  <a:chExt cx="379440" cy="5436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8230320" y="5679000"/>
                    <a:ext cx="3794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23032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826920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823032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30320" y="5304600"/>
                <a:ext cx="381240" cy="387000"/>
              </a:xfrm>
              <a:custGeom>
                <a:avLst/>
                <a:gdLst/>
                <a:ahLst/>
                <a:rect l="l" t="t" r="r" b="b"/>
                <a:pathLst>
                  <a:path w="244" h="277">
                    <a:moveTo>
                      <a:pt x="0" y="0"/>
                    </a:moveTo>
                    <a:lnTo>
                      <a:pt x="243" y="0"/>
                    </a:lnTo>
                    <a:lnTo>
                      <a:pt x="243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264520" y="5316840"/>
                <a:ext cx="42120" cy="397080"/>
              </a:xfrm>
              <a:custGeom>
                <a:avLst/>
                <a:gdLst/>
                <a:ahLst/>
                <a:rect l="l" t="t" r="r" b="b"/>
                <a:pathLst>
                  <a:path w="27" h="284">
                    <a:moveTo>
                      <a:pt x="0" y="2"/>
                    </a:moveTo>
                    <a:lnTo>
                      <a:pt x="17" y="0"/>
                    </a:lnTo>
                    <a:lnTo>
                      <a:pt x="26" y="5"/>
                    </a:lnTo>
                    <a:lnTo>
                      <a:pt x="26" y="283"/>
                    </a:lnTo>
                    <a:lnTo>
                      <a:pt x="17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8230320" y="5279040"/>
                <a:ext cx="379440" cy="45720"/>
                <a:chOff x="8230320" y="5279040"/>
                <a:chExt cx="379440" cy="45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8230320" y="528300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230320" y="527904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823032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8230320" y="5258160"/>
                <a:ext cx="378000" cy="39240"/>
                <a:chOff x="8230320" y="5258160"/>
                <a:chExt cx="378000" cy="392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823032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23032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230320" y="5254200"/>
                <a:ext cx="376560" cy="30240"/>
                <a:chOff x="8230320" y="5254200"/>
                <a:chExt cx="376560" cy="3024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8230320" y="5254200"/>
                  <a:ext cx="376560" cy="30240"/>
                  <a:chOff x="8230320" y="5254200"/>
                  <a:chExt cx="376560" cy="3024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8231400" y="5254200"/>
                    <a:ext cx="37188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23032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8231400" y="5254200"/>
                  <a:ext cx="37188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826920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8384760" y="5255280"/>
                <a:ext cx="64080" cy="31680"/>
                <a:chOff x="8384760" y="5255280"/>
                <a:chExt cx="64080" cy="3168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384760" y="5255280"/>
                  <a:ext cx="64080" cy="31680"/>
                  <a:chOff x="8384760" y="5255280"/>
                  <a:chExt cx="64080" cy="31680"/>
                </a:xfrm>
              </p:grpSpPr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8384760" y="5255280"/>
                    <a:ext cx="64080" cy="9720"/>
                    <a:chOff x="8384760" y="5255280"/>
                    <a:chExt cx="64080" cy="97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8390880" y="5255280"/>
                      <a:ext cx="5760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8384760" y="5255280"/>
                      <a:ext cx="6408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8405280" y="5270400"/>
                    <a:ext cx="30960" cy="1080"/>
                    <a:chOff x="8405280" y="5270400"/>
                    <a:chExt cx="30960" cy="108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0528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840528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8395560" y="5278680"/>
                    <a:ext cx="43560" cy="8280"/>
                    <a:chOff x="8395560" y="5278680"/>
                    <a:chExt cx="43560" cy="828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839556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839988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839988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18" name=""/>
                <p:cNvSpPr/>
                <p:nvPr/>
              </p:nvSpPr>
              <p:spPr>
                <a:xfrm>
                  <a:off x="8416080" y="5262120"/>
                  <a:ext cx="432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8627040" y="5254200"/>
              <a:ext cx="378000" cy="479160"/>
              <a:chOff x="8627040" y="5254200"/>
              <a:chExt cx="378000" cy="47916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8627040" y="5679000"/>
                <a:ext cx="376560" cy="54360"/>
                <a:chOff x="8627040" y="5679000"/>
                <a:chExt cx="376560" cy="5436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8627040" y="5679000"/>
                  <a:ext cx="376560" cy="54360"/>
                  <a:chOff x="8627040" y="5679000"/>
                  <a:chExt cx="376560" cy="5436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8627040" y="5679000"/>
                    <a:ext cx="37656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86270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4" name=""/>
                <p:cNvSpPr/>
                <p:nvPr/>
              </p:nvSpPr>
              <p:spPr>
                <a:xfrm>
                  <a:off x="8665920" y="5720760"/>
                  <a:ext cx="27720" cy="3960"/>
                </a:xfrm>
                <a:custGeom>
                  <a:avLst/>
                  <a:gdLst/>
                  <a:ahLst/>
                  <a:rect l="l" t="t" r="r" b="b"/>
                  <a:pathLst>
                    <a:path w="18" h="3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11" y="2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6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86270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627040" y="5304600"/>
                <a:ext cx="378000" cy="387000"/>
              </a:xfrm>
              <a:custGeom>
                <a:avLst/>
                <a:gdLst/>
                <a:ahLst/>
                <a:rect l="l" t="t" r="r" b="b"/>
                <a:pathLst>
                  <a:path w="242" h="277">
                    <a:moveTo>
                      <a:pt x="0" y="0"/>
                    </a:moveTo>
                    <a:lnTo>
                      <a:pt x="241" y="0"/>
                    </a:lnTo>
                    <a:lnTo>
                      <a:pt x="241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659440" y="5316840"/>
                <a:ext cx="39240" cy="397080"/>
              </a:xfrm>
              <a:custGeom>
                <a:avLst/>
                <a:gdLst/>
                <a:ahLst/>
                <a:rect l="l" t="t" r="r" b="b"/>
                <a:pathLst>
                  <a:path w="25" h="284">
                    <a:moveTo>
                      <a:pt x="0" y="2"/>
                    </a:moveTo>
                    <a:lnTo>
                      <a:pt x="15" y="0"/>
                    </a:lnTo>
                    <a:lnTo>
                      <a:pt x="24" y="5"/>
                    </a:lnTo>
                    <a:lnTo>
                      <a:pt x="24" y="283"/>
                    </a:lnTo>
                    <a:lnTo>
                      <a:pt x="18" y="280"/>
                    </a:lnTo>
                    <a:lnTo>
                      <a:pt x="5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8627040" y="5279040"/>
                <a:ext cx="376560" cy="45720"/>
                <a:chOff x="8627040" y="5279040"/>
                <a:chExt cx="376560" cy="457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8627040" y="528300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627040" y="527904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6270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8627040" y="5258160"/>
                <a:ext cx="378000" cy="39240"/>
                <a:chOff x="8627040" y="5258160"/>
                <a:chExt cx="378000" cy="392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86270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6270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8627040" y="5254200"/>
                <a:ext cx="376560" cy="30240"/>
                <a:chOff x="8627040" y="5254200"/>
                <a:chExt cx="376560" cy="3024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8627040" y="5254200"/>
                  <a:ext cx="376560" cy="30240"/>
                  <a:chOff x="8627040" y="5254200"/>
                  <a:chExt cx="376560" cy="3024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8628120" y="5254200"/>
                    <a:ext cx="3686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86270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8628120" y="5254200"/>
                  <a:ext cx="3686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865944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7" y="3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9" y="1"/>
                    </a:ln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8782920" y="5255280"/>
                <a:ext cx="60480" cy="31680"/>
                <a:chOff x="8782920" y="5255280"/>
                <a:chExt cx="60480" cy="3168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8782920" y="5255280"/>
                  <a:ext cx="60480" cy="31680"/>
                  <a:chOff x="8782920" y="5255280"/>
                  <a:chExt cx="60480" cy="3168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8782920" y="5255280"/>
                    <a:ext cx="5904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1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8"/>
                        </a:lnTo>
                        <a:lnTo>
                          <a:pt x="32" y="0"/>
                        </a:lnTo>
                        <a:lnTo>
                          <a:pt x="6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7"/>
                        </a:lnTo>
                        <a:lnTo>
                          <a:pt x="32" y="0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8796960" y="5270400"/>
                    <a:ext cx="30960" cy="1080"/>
                    <a:chOff x="8796960" y="5270400"/>
                    <a:chExt cx="30960" cy="108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8791920" y="5278680"/>
                    <a:ext cx="43560" cy="8280"/>
                    <a:chOff x="8791920" y="5278680"/>
                    <a:chExt cx="43560" cy="828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8791920" y="5278680"/>
                      <a:ext cx="3708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8791920" y="5278680"/>
                      <a:ext cx="4356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8791920" y="5278680"/>
                      <a:ext cx="370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53" name=""/>
                <p:cNvSpPr/>
                <p:nvPr/>
              </p:nvSpPr>
              <p:spPr>
                <a:xfrm>
                  <a:off x="8810640" y="5262120"/>
                  <a:ext cx="144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4" name=""/>
            <p:cNvGrpSpPr/>
            <p:nvPr/>
          </p:nvGrpSpPr>
          <p:grpSpPr>
            <a:xfrm>
              <a:off x="9017640" y="5254200"/>
              <a:ext cx="383040" cy="479160"/>
              <a:chOff x="9017640" y="5254200"/>
              <a:chExt cx="383040" cy="47916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9017640" y="5679000"/>
                <a:ext cx="381240" cy="54360"/>
                <a:chOff x="9017640" y="5679000"/>
                <a:chExt cx="381240" cy="5436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9017640" y="5679000"/>
                  <a:ext cx="381240" cy="54360"/>
                  <a:chOff x="9017640" y="5679000"/>
                  <a:chExt cx="381240" cy="5436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9017640" y="5679000"/>
                    <a:ext cx="3812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90176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>
                  <a:off x="905832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90176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017640" y="5304600"/>
                <a:ext cx="383040" cy="387000"/>
              </a:xfrm>
              <a:custGeom>
                <a:avLst/>
                <a:gdLst/>
                <a:ahLst/>
                <a:rect l="l" t="t" r="r" b="b"/>
                <a:pathLst>
                  <a:path w="245" h="277">
                    <a:moveTo>
                      <a:pt x="0" y="0"/>
                    </a:moveTo>
                    <a:lnTo>
                      <a:pt x="244" y="0"/>
                    </a:lnTo>
                    <a:lnTo>
                      <a:pt x="244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051840" y="5316840"/>
                <a:ext cx="43920" cy="397080"/>
              </a:xfrm>
              <a:custGeom>
                <a:avLst/>
                <a:gdLst/>
                <a:ahLst/>
                <a:rect l="l" t="t" r="r" b="b"/>
                <a:pathLst>
                  <a:path w="28" h="284">
                    <a:moveTo>
                      <a:pt x="0" y="2"/>
                    </a:moveTo>
                    <a:lnTo>
                      <a:pt x="18" y="0"/>
                    </a:lnTo>
                    <a:lnTo>
                      <a:pt x="27" y="5"/>
                    </a:lnTo>
                    <a:lnTo>
                      <a:pt x="27" y="283"/>
                    </a:lnTo>
                    <a:lnTo>
                      <a:pt x="18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9017640" y="5279040"/>
                <a:ext cx="381240" cy="45720"/>
                <a:chOff x="9017640" y="5279040"/>
                <a:chExt cx="381240" cy="45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9017640" y="528300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9017640" y="527904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90176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9017640" y="5258160"/>
                <a:ext cx="378000" cy="39240"/>
                <a:chOff x="9017640" y="5258160"/>
                <a:chExt cx="378000" cy="392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90176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90176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9017640" y="5254200"/>
                <a:ext cx="376560" cy="30240"/>
                <a:chOff x="9017640" y="5254200"/>
                <a:chExt cx="376560" cy="3024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9017640" y="5254200"/>
                  <a:ext cx="376560" cy="30240"/>
                  <a:chOff x="9017640" y="5254200"/>
                  <a:chExt cx="376560" cy="3024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9020520" y="5254200"/>
                    <a:ext cx="3668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90176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4" name=""/>
                <p:cNvSpPr/>
                <p:nvPr/>
              </p:nvSpPr>
              <p:spPr>
                <a:xfrm>
                  <a:off x="9020520" y="5254200"/>
                  <a:ext cx="3668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905832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9180000" y="5255280"/>
                <a:ext cx="57600" cy="31680"/>
                <a:chOff x="9180000" y="5255280"/>
                <a:chExt cx="57600" cy="3168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9180000" y="5255280"/>
                  <a:ext cx="57600" cy="31680"/>
                  <a:chOff x="9180000" y="5255280"/>
                  <a:chExt cx="57600" cy="3168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9180000" y="5255280"/>
                    <a:ext cx="5760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9194040" y="5270400"/>
                    <a:ext cx="29160" cy="1080"/>
                    <a:chOff x="9194040" y="5270400"/>
                    <a:chExt cx="29160" cy="108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919404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9194040" y="5270400"/>
                      <a:ext cx="291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9184320" y="5278680"/>
                    <a:ext cx="43560" cy="8280"/>
                    <a:chOff x="9184320" y="5278680"/>
                    <a:chExt cx="43560" cy="828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918432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918864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918864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88" name=""/>
                <p:cNvSpPr/>
                <p:nvPr/>
              </p:nvSpPr>
              <p:spPr>
                <a:xfrm>
                  <a:off x="9209520" y="5262120"/>
                  <a:ext cx="108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-6480" y="-6480"/>
            <a:ext cx="908712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Testno trže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89560" y="2975040"/>
            <a:ext cx="772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57320" y="2292480"/>
            <a:ext cx="9570240" cy="4155480"/>
            <a:chOff x="157320" y="2292480"/>
            <a:chExt cx="9570240" cy="4155480"/>
          </a:xfrm>
        </p:grpSpPr>
        <p:sp>
          <p:nvSpPr>
            <p:cNvPr id="492" name=""/>
            <p:cNvSpPr/>
            <p:nvPr/>
          </p:nvSpPr>
          <p:spPr>
            <a:xfrm>
              <a:off x="2229840" y="2881800"/>
              <a:ext cx="5469120" cy="2951280"/>
            </a:xfrm>
            <a:custGeom>
              <a:avLst/>
              <a:gdLst>
                <a:gd name="textAreaLeft" fmla="*/ 1248480 w 5469120"/>
                <a:gd name="textAreaRight" fmla="*/ 4220640 w 5469120"/>
                <a:gd name="textAreaTop" fmla="*/ 673560 h 2951280"/>
                <a:gd name="textAreaBottom" fmla="*/ 2277720 h 29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5400000">
              <a:off x="7859880" y="34142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Oglaševanj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1363680" y="21974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akiranj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6593760" y="1119240"/>
              <a:ext cx="677520" cy="306036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Izdele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400000">
              <a:off x="2484360" y="1102320"/>
              <a:ext cx="67788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vni proračun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7755840" y="21974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ozicioniran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6543720" y="4560840"/>
              <a:ext cx="675000" cy="30607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zpeč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2433240" y="45806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Ce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5400000">
              <a:off x="1347120" y="341460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Blagovna znamk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97280" y="3112920"/>
              <a:ext cx="4031280" cy="2509200"/>
            </a:xfrm>
            <a:custGeom>
              <a:avLst/>
              <a:gdLst>
                <a:gd name="textAreaLeft" fmla="*/ 920160 w 4031280"/>
                <a:gd name="textAreaRight" fmla="*/ 3111120 w 4031280"/>
                <a:gd name="textAreaTop" fmla="*/ 572760 h 2509200"/>
                <a:gd name="textAreaBottom" fmla="*/ 1936440 h 250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c0128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767040" y="3693960"/>
            <a:ext cx="25034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Sestavine, ki jih lahko podjetje tržno testi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3440" y="1173240"/>
            <a:ext cx="956016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6767ff"/>
                </a:solidFill>
                <a:latin typeface="Arial"/>
              </a:rPr>
              <a:t>Testno trženje</a:t>
            </a:r>
            <a:r>
              <a:rPr b="1" lang="en-GB" sz="25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je faza v kateri uvajamo trženjski program v bolj realističnem tržnem okolj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050840" y="5857920"/>
            <a:ext cx="1876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51320" y="5857920"/>
            <a:ext cx="2851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1576080" y="3082680"/>
            <a:ext cx="2644920" cy="292752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f766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daj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371840" y="4084560"/>
            <a:ext cx="71136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400000">
            <a:off x="5330880" y="3090960"/>
            <a:ext cx="2641680" cy="304488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3365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je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27200" y="1870200"/>
            <a:ext cx="85834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Komercializacija je uvajanje novega izdelka/storitve na trg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-6480" y="-6480"/>
            <a:ext cx="92520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Komercializa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60564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Življenjski cikel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7200" y="1747800"/>
            <a:ext cx="9529920" cy="4711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160720" y="2558880"/>
            <a:ext cx="7384320" cy="1578960"/>
            <a:chOff x="2160720" y="2558880"/>
            <a:chExt cx="7384320" cy="1578960"/>
          </a:xfrm>
        </p:grpSpPr>
        <p:grpSp>
          <p:nvGrpSpPr>
            <p:cNvPr id="514" name=""/>
            <p:cNvGrpSpPr/>
            <p:nvPr/>
          </p:nvGrpSpPr>
          <p:grpSpPr>
            <a:xfrm>
              <a:off x="6430680" y="2558880"/>
              <a:ext cx="3114360" cy="1423800"/>
              <a:chOff x="6430680" y="2558880"/>
              <a:chExt cx="3114360" cy="1423800"/>
            </a:xfrm>
          </p:grpSpPr>
          <p:sp>
            <p:nvSpPr>
              <p:cNvPr id="515" name=""/>
              <p:cNvSpPr/>
              <p:nvPr/>
            </p:nvSpPr>
            <p:spPr>
              <a:xfrm>
                <a:off x="6430680" y="2558880"/>
                <a:ext cx="42120" cy="396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0"/>
                    </a:moveTo>
                    <a:lnTo>
                      <a:pt x="24" y="2"/>
                    </a:lnTo>
                    <a:lnTo>
                      <a:pt x="26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9920" y="2561400"/>
                <a:ext cx="4032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0"/>
                    </a:moveTo>
                    <a:lnTo>
                      <a:pt x="25" y="0"/>
                    </a:lnTo>
                    <a:lnTo>
                      <a:pt x="25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08800" y="2561400"/>
                <a:ext cx="3564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43360" y="2565720"/>
                <a:ext cx="3888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22" y="1"/>
                    </a:lnTo>
                    <a:lnTo>
                      <a:pt x="24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77560" y="2566800"/>
                <a:ext cx="38880" cy="720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2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12120" y="257148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0"/>
                    </a:moveTo>
                    <a:lnTo>
                      <a:pt x="25" y="2"/>
                    </a:lnTo>
                    <a:lnTo>
                      <a:pt x="27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647760" y="2575440"/>
                <a:ext cx="3924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4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85560" y="258120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719760" y="2585520"/>
                <a:ext cx="38880" cy="792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22" y="4"/>
                    </a:lnTo>
                    <a:lnTo>
                      <a:pt x="24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57560" y="2590920"/>
                <a:ext cx="37440" cy="111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21" y="6"/>
                    </a:lnTo>
                    <a:lnTo>
                      <a:pt x="23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791760" y="259920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0" y="0"/>
                    </a:moveTo>
                    <a:lnTo>
                      <a:pt x="24" y="6"/>
                    </a:lnTo>
                    <a:lnTo>
                      <a:pt x="26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827760" y="2607480"/>
                <a:ext cx="4068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0"/>
                    </a:moveTo>
                    <a:lnTo>
                      <a:pt x="23" y="5"/>
                    </a:lnTo>
                    <a:lnTo>
                      <a:pt x="25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860520" y="2614680"/>
                <a:ext cx="42120" cy="972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24" y="5"/>
                    </a:lnTo>
                    <a:lnTo>
                      <a:pt x="26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95080" y="262332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32520" y="26301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22" y="6"/>
                    </a:lnTo>
                    <a:lnTo>
                      <a:pt x="24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67080" y="263844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01280" y="264708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0"/>
                    </a:moveTo>
                    <a:lnTo>
                      <a:pt x="20" y="7"/>
                    </a:lnTo>
                    <a:lnTo>
                      <a:pt x="22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34400" y="2656800"/>
                <a:ext cx="37080" cy="1224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0"/>
                    </a:moveTo>
                    <a:lnTo>
                      <a:pt x="21" y="7"/>
                    </a:lnTo>
                    <a:lnTo>
                      <a:pt x="23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68600" y="2667960"/>
                <a:ext cx="30960" cy="1368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0"/>
                    </a:moveTo>
                    <a:lnTo>
                      <a:pt x="17" y="8"/>
                    </a:lnTo>
                    <a:lnTo>
                      <a:pt x="19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98120" y="2679120"/>
                <a:ext cx="32760" cy="154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0" y="9"/>
                    </a:lnTo>
                    <a:lnTo>
                      <a:pt x="2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29800" y="269316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0" y="0"/>
                    </a:moveTo>
                    <a:lnTo>
                      <a:pt x="52" y="26"/>
                    </a:lnTo>
                    <a:lnTo>
                      <a:pt x="54" y="2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07560" y="2729520"/>
                <a:ext cx="88920" cy="4176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0" y="0"/>
                    </a:moveTo>
                    <a:lnTo>
                      <a:pt x="54" y="28"/>
                    </a:lnTo>
                    <a:lnTo>
                      <a:pt x="56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290720" y="2768760"/>
                <a:ext cx="81000" cy="421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0"/>
                    </a:moveTo>
                    <a:lnTo>
                      <a:pt x="49" y="29"/>
                    </a:lnTo>
                    <a:lnTo>
                      <a:pt x="51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68480" y="2809080"/>
                <a:ext cx="81360" cy="403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0"/>
                    </a:moveTo>
                    <a:lnTo>
                      <a:pt x="49" y="28"/>
                    </a:lnTo>
                    <a:lnTo>
                      <a:pt x="51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448400" y="2848680"/>
                <a:ext cx="74880" cy="4464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0" y="0"/>
                    </a:moveTo>
                    <a:lnTo>
                      <a:pt x="47" y="30"/>
                    </a:lnTo>
                    <a:lnTo>
                      <a:pt x="47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21840" y="2890440"/>
                <a:ext cx="76320" cy="44640"/>
              </a:xfrm>
              <a:custGeom>
                <a:avLst/>
                <a:gdLst/>
                <a:ahLst/>
                <a:rect l="l" t="t" r="r" b="b"/>
                <a:pathLst>
                  <a:path w="49" h="32">
                    <a:moveTo>
                      <a:pt x="0" y="0"/>
                    </a:moveTo>
                    <a:lnTo>
                      <a:pt x="46" y="30"/>
                    </a:lnTo>
                    <a:lnTo>
                      <a:pt x="48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97080" y="2932560"/>
                <a:ext cx="71640" cy="4500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0" y="0"/>
                    </a:moveTo>
                    <a:lnTo>
                      <a:pt x="43" y="30"/>
                    </a:lnTo>
                    <a:lnTo>
                      <a:pt x="45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65840" y="297612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734600" y="302220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98680" y="3068280"/>
                <a:ext cx="67320" cy="4608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0" y="0"/>
                    </a:moveTo>
                    <a:lnTo>
                      <a:pt x="40" y="32"/>
                    </a:lnTo>
                    <a:lnTo>
                      <a:pt x="42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64200" y="311328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908120" y="3143880"/>
                <a:ext cx="42120" cy="334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0"/>
                    </a:moveTo>
                    <a:lnTo>
                      <a:pt x="24" y="23"/>
                    </a:lnTo>
                    <a:lnTo>
                      <a:pt x="26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47360" y="317628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0"/>
                    </a:moveTo>
                    <a:lnTo>
                      <a:pt x="27" y="23"/>
                    </a:lnTo>
                    <a:lnTo>
                      <a:pt x="29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989480" y="3208320"/>
                <a:ext cx="4356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0" y="0"/>
                    </a:moveTo>
                    <a:lnTo>
                      <a:pt x="25" y="23"/>
                    </a:lnTo>
                    <a:lnTo>
                      <a:pt x="27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030160" y="3239280"/>
                <a:ext cx="47880" cy="3636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73720" y="327276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112960" y="330228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155080" y="333720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0"/>
                    </a:moveTo>
                    <a:lnTo>
                      <a:pt x="25" y="21"/>
                    </a:lnTo>
                    <a:lnTo>
                      <a:pt x="27" y="2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195760" y="3366720"/>
                <a:ext cx="48240" cy="3492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0" y="0"/>
                    </a:moveTo>
                    <a:lnTo>
                      <a:pt x="28" y="23"/>
                    </a:lnTo>
                    <a:lnTo>
                      <a:pt x="3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242560" y="340020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0"/>
                    </a:moveTo>
                    <a:lnTo>
                      <a:pt x="26" y="22"/>
                    </a:lnTo>
                    <a:lnTo>
                      <a:pt x="28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278920" y="3431160"/>
                <a:ext cx="29520" cy="223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16" y="14"/>
                    </a:lnTo>
                    <a:lnTo>
                      <a:pt x="18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302320" y="344952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327160" y="3468960"/>
                <a:ext cx="28080" cy="1944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3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353440" y="348732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4" y="12"/>
                    </a:lnTo>
                    <a:lnTo>
                      <a:pt x="14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375400" y="350388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00600" y="352332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4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424000" y="354168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6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63240" y="357264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472600" y="3579480"/>
                <a:ext cx="27720" cy="19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2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494200" y="359640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519400" y="3614400"/>
                <a:ext cx="51120" cy="3492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0"/>
                    </a:moveTo>
                    <a:lnTo>
                      <a:pt x="30" y="24"/>
                    </a:lnTo>
                    <a:lnTo>
                      <a:pt x="32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592840" y="366516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614800" y="3677400"/>
                <a:ext cx="52920" cy="3060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0" y="0"/>
                    </a:moveTo>
                    <a:lnTo>
                      <a:pt x="31" y="20"/>
                    </a:lnTo>
                    <a:lnTo>
                      <a:pt x="33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664840" y="3704040"/>
                <a:ext cx="60840" cy="2952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0" y="0"/>
                    </a:moveTo>
                    <a:lnTo>
                      <a:pt x="36" y="19"/>
                    </a:lnTo>
                    <a:lnTo>
                      <a:pt x="38" y="2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21360" y="3730680"/>
                <a:ext cx="6228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7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80400" y="3754440"/>
                <a:ext cx="6264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9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841600" y="37796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04240" y="380052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965080" y="3820320"/>
                <a:ext cx="71280" cy="266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0"/>
                    </a:moveTo>
                    <a:lnTo>
                      <a:pt x="43" y="17"/>
                    </a:lnTo>
                    <a:lnTo>
                      <a:pt x="45" y="1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9030600" y="3843000"/>
                <a:ext cx="70200" cy="219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0"/>
                    </a:moveTo>
                    <a:lnTo>
                      <a:pt x="42" y="14"/>
                    </a:lnTo>
                    <a:lnTo>
                      <a:pt x="44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9096480" y="3862080"/>
                <a:ext cx="57600" cy="183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4" y="11"/>
                    </a:lnTo>
                    <a:lnTo>
                      <a:pt x="36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9150840" y="3879000"/>
                <a:ext cx="52920" cy="183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0"/>
                    </a:moveTo>
                    <a:lnTo>
                      <a:pt x="31" y="11"/>
                    </a:lnTo>
                    <a:lnTo>
                      <a:pt x="33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200880" y="389448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262080" y="3908520"/>
                <a:ext cx="5796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4" y="11"/>
                    </a:lnTo>
                    <a:lnTo>
                      <a:pt x="36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315000" y="3924000"/>
                <a:ext cx="59400" cy="1800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0" y="0"/>
                    </a:moveTo>
                    <a:lnTo>
                      <a:pt x="35" y="11"/>
                    </a:lnTo>
                    <a:lnTo>
                      <a:pt x="37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371520" y="3938040"/>
                <a:ext cx="59400" cy="165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5" y="11"/>
                    </a:lnTo>
                    <a:lnTo>
                      <a:pt x="37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9428040" y="3953520"/>
                <a:ext cx="60840" cy="15480"/>
              </a:xfrm>
              <a:custGeom>
                <a:avLst/>
                <a:gdLst/>
                <a:ahLst/>
                <a:rect l="l" t="t" r="r" b="b"/>
                <a:pathLst>
                  <a:path w="39" h="11">
                    <a:moveTo>
                      <a:pt x="0" y="0"/>
                    </a:moveTo>
                    <a:lnTo>
                      <a:pt x="36" y="9"/>
                    </a:lnTo>
                    <a:lnTo>
                      <a:pt x="38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480960" y="39661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2160720" y="2562840"/>
              <a:ext cx="4301280" cy="1575000"/>
              <a:chOff x="2160720" y="2562840"/>
              <a:chExt cx="4301280" cy="1575000"/>
            </a:xfrm>
          </p:grpSpPr>
          <p:sp>
            <p:nvSpPr>
              <p:cNvPr id="584" name=""/>
              <p:cNvSpPr/>
              <p:nvPr/>
            </p:nvSpPr>
            <p:spPr>
              <a:xfrm>
                <a:off x="6422760" y="2562840"/>
                <a:ext cx="3924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4" y="0"/>
                    </a:move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87120" y="256536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351120" y="2565360"/>
                <a:ext cx="3708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311880" y="257112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77320" y="257112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41680" y="2575440"/>
                <a:ext cx="3744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02800" y="258120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27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68240" y="2583720"/>
                <a:ext cx="35640" cy="828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22" y="0"/>
                    </a:move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35120" y="2590560"/>
                <a:ext cx="34200" cy="720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1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099480" y="259488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6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64920" y="2604960"/>
                <a:ext cx="3708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028920" y="2610360"/>
                <a:ext cx="37440" cy="972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23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2920" y="261900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61960" y="2628720"/>
                <a:ext cx="34200" cy="792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21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25600" y="263412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89960" y="26427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55400" y="265212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2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22640" y="2662200"/>
                <a:ext cx="38880" cy="126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94560" y="2673360"/>
                <a:ext cx="32400" cy="136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0" y="0"/>
                    </a:moveTo>
                    <a:lnTo>
                      <a:pt x="2" y="8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762880" y="2683440"/>
                <a:ext cx="34200" cy="1620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0"/>
                    </a:move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680440" y="2697480"/>
                <a:ext cx="84240" cy="4032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3" y="0"/>
                    </a:moveTo>
                    <a:lnTo>
                      <a:pt x="2" y="27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00520" y="273348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54" y="0"/>
                    </a:moveTo>
                    <a:lnTo>
                      <a:pt x="2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20960" y="2772720"/>
                <a:ext cx="82800" cy="403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52" y="0"/>
                    </a:moveTo>
                    <a:lnTo>
                      <a:pt x="2" y="28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44280" y="2811960"/>
                <a:ext cx="82800" cy="4320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52" y="0"/>
                    </a:moveTo>
                    <a:lnTo>
                      <a:pt x="2" y="3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369040" y="2853720"/>
                <a:ext cx="79560" cy="421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50" y="0"/>
                    </a:moveTo>
                    <a:lnTo>
                      <a:pt x="0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294160" y="28944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49" h="33">
                    <a:moveTo>
                      <a:pt x="48" y="0"/>
                    </a:moveTo>
                    <a:lnTo>
                      <a:pt x="2" y="31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25400" y="2937960"/>
                <a:ext cx="76320" cy="432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48" y="0"/>
                    </a:moveTo>
                    <a:lnTo>
                      <a:pt x="2" y="29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4840" y="2980080"/>
                <a:ext cx="71640" cy="4608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45" y="0"/>
                    </a:moveTo>
                    <a:lnTo>
                      <a:pt x="2" y="3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089320" y="3024720"/>
                <a:ext cx="70200" cy="4752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4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026680" y="307116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43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982760" y="311760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0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42080" y="3148200"/>
                <a:ext cx="45360" cy="3312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8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99960" y="318024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61080" y="321228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7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817160" y="32432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775040" y="32756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734360" y="3307680"/>
                <a:ext cx="45360" cy="363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8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93680" y="3340080"/>
                <a:ext cx="43920" cy="33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7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51560" y="337068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607640" y="3404520"/>
                <a:ext cx="46800" cy="3312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9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585680" y="343548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562280" y="3453480"/>
                <a:ext cx="29520" cy="23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535640" y="3474360"/>
                <a:ext cx="29520" cy="180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8" y="0"/>
                    </a:moveTo>
                    <a:lnTo>
                      <a:pt x="2" y="12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515480" y="349128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490280" y="350820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466880" y="352764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2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46360" y="3547080"/>
                <a:ext cx="23400" cy="20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396320" y="3578040"/>
                <a:ext cx="81360" cy="144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396320" y="3584880"/>
                <a:ext cx="24840" cy="183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70040" y="3600360"/>
                <a:ext cx="29520" cy="219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323240" y="3620160"/>
                <a:ext cx="54360" cy="3312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34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253760" y="3667680"/>
                <a:ext cx="10476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224600" y="3680280"/>
                <a:ext cx="54720" cy="3060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34" y="0"/>
                    </a:moveTo>
                    <a:lnTo>
                      <a:pt x="2" y="2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69880" y="3708000"/>
                <a:ext cx="60840" cy="280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11920" y="3734640"/>
                <a:ext cx="60840" cy="2772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49280" y="3758760"/>
                <a:ext cx="67320" cy="2772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2" y="0"/>
                    </a:moveTo>
                    <a:lnTo>
                      <a:pt x="0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88440" y="3782520"/>
                <a:ext cx="62640" cy="2520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39" y="0"/>
                    </a:moveTo>
                    <a:lnTo>
                      <a:pt x="2" y="16"/>
                    </a:ln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24360" y="38048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1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860280" y="382608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2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92960" y="3846960"/>
                <a:ext cx="70200" cy="237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4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39680" y="3866400"/>
                <a:ext cx="56160" cy="1800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3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688560" y="3883320"/>
                <a:ext cx="5292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33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28800" y="3898800"/>
                <a:ext cx="62640" cy="1656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39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74080" y="3912480"/>
                <a:ext cx="5760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6" y="0"/>
                    </a:moveTo>
                    <a:lnTo>
                      <a:pt x="2" y="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19720" y="392832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8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63200" y="3942000"/>
                <a:ext cx="62280" cy="1512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1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08120" y="3956040"/>
                <a:ext cx="56160" cy="1656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5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49080" y="39715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9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92560" y="3984120"/>
                <a:ext cx="62640" cy="1368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39" y="0"/>
                    </a:move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34960" y="39967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0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186360" y="4011840"/>
                <a:ext cx="52920" cy="111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3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34880" y="402048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4" h="9">
                    <a:moveTo>
                      <a:pt x="33" y="0"/>
                    </a:moveTo>
                    <a:lnTo>
                      <a:pt x="2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92760" y="4031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42720" y="4040280"/>
                <a:ext cx="51120" cy="1224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32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994120" y="4049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940840" y="4061160"/>
                <a:ext cx="56160" cy="79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892240" y="4068360"/>
                <a:ext cx="51480" cy="1080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32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837880" y="4078080"/>
                <a:ext cx="57600" cy="936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36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89280" y="4084920"/>
                <a:ext cx="56160" cy="1080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35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40680" y="4095000"/>
                <a:ext cx="54720" cy="1080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3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685960" y="4103280"/>
                <a:ext cx="60840" cy="1260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38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32680" y="4111560"/>
                <a:ext cx="56160" cy="828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5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78320" y="4118400"/>
                <a:ext cx="56160" cy="540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35" y="0"/>
                    </a:moveTo>
                    <a:lnTo>
                      <a:pt x="2" y="3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21800" y="4122720"/>
                <a:ext cx="57600" cy="684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36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67080" y="4128120"/>
                <a:ext cx="57600" cy="540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06240" y="4129920"/>
                <a:ext cx="62280" cy="3960"/>
              </a:xfrm>
              <a:custGeom>
                <a:avLst/>
                <a:gdLst/>
                <a:ahLst/>
                <a:rect l="l" t="t" r="r" b="b"/>
                <a:pathLst>
                  <a:path w="40" h="3">
                    <a:moveTo>
                      <a:pt x="39" y="0"/>
                    </a:moveTo>
                    <a:lnTo>
                      <a:pt x="2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51160" y="4132800"/>
                <a:ext cx="59400" cy="252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37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300040" y="4132800"/>
                <a:ext cx="57600" cy="504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2215440" y="4133880"/>
                <a:ext cx="11736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160720" y="4133880"/>
                <a:ext cx="10944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"/>
          <p:cNvSpPr/>
          <p:nvPr/>
        </p:nvSpPr>
        <p:spPr>
          <a:xfrm>
            <a:off x="490680" y="419112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9389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50720" y="2219040"/>
            <a:ext cx="0" cy="32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451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650000" y="2409840"/>
            <a:ext cx="180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470440" y="4097160"/>
            <a:ext cx="675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54560" y="4467240"/>
            <a:ext cx="10962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521080" y="4467240"/>
            <a:ext cx="13125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vaj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36200" y="3406680"/>
            <a:ext cx="11721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1877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74840" y="2540160"/>
            <a:ext cx="11876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705560" y="4467240"/>
            <a:ext cx="7686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183000" y="4467240"/>
            <a:ext cx="10947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Zrel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38280" y="4467240"/>
            <a:ext cx="14209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pad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65480" y="1798560"/>
            <a:ext cx="21186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 v 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7040" y="3719520"/>
            <a:ext cx="8159760" cy="809640"/>
          </a:xfrm>
          <a:custGeom>
            <a:avLst/>
            <a:gdLst/>
            <a:ahLst/>
            <a:rect l="l" t="t" r="r" b="b"/>
            <a:pathLst>
              <a:path w="5219" h="578">
                <a:moveTo>
                  <a:pt x="0" y="327"/>
                </a:moveTo>
                <a:lnTo>
                  <a:pt x="116" y="334"/>
                </a:lnTo>
                <a:lnTo>
                  <a:pt x="291" y="375"/>
                </a:lnTo>
                <a:lnTo>
                  <a:pt x="431" y="403"/>
                </a:lnTo>
                <a:lnTo>
                  <a:pt x="629" y="438"/>
                </a:lnTo>
                <a:lnTo>
                  <a:pt x="815" y="473"/>
                </a:lnTo>
                <a:lnTo>
                  <a:pt x="978" y="507"/>
                </a:lnTo>
                <a:lnTo>
                  <a:pt x="1130" y="542"/>
                </a:lnTo>
                <a:lnTo>
                  <a:pt x="1270" y="563"/>
                </a:lnTo>
                <a:lnTo>
                  <a:pt x="1421" y="577"/>
                </a:lnTo>
                <a:lnTo>
                  <a:pt x="1561" y="563"/>
                </a:lnTo>
                <a:lnTo>
                  <a:pt x="1724" y="507"/>
                </a:lnTo>
                <a:lnTo>
                  <a:pt x="1910" y="445"/>
                </a:lnTo>
                <a:lnTo>
                  <a:pt x="2050" y="389"/>
                </a:lnTo>
                <a:lnTo>
                  <a:pt x="2190" y="327"/>
                </a:lnTo>
                <a:lnTo>
                  <a:pt x="2318" y="257"/>
                </a:lnTo>
                <a:lnTo>
                  <a:pt x="2458" y="195"/>
                </a:lnTo>
                <a:lnTo>
                  <a:pt x="2586" y="146"/>
                </a:lnTo>
                <a:lnTo>
                  <a:pt x="2702" y="118"/>
                </a:lnTo>
                <a:lnTo>
                  <a:pt x="2807" y="83"/>
                </a:lnTo>
                <a:lnTo>
                  <a:pt x="2900" y="70"/>
                </a:lnTo>
                <a:lnTo>
                  <a:pt x="3040" y="42"/>
                </a:lnTo>
                <a:lnTo>
                  <a:pt x="3261" y="14"/>
                </a:lnTo>
                <a:lnTo>
                  <a:pt x="3436" y="0"/>
                </a:lnTo>
                <a:lnTo>
                  <a:pt x="3599" y="14"/>
                </a:lnTo>
                <a:lnTo>
                  <a:pt x="3727" y="28"/>
                </a:lnTo>
                <a:lnTo>
                  <a:pt x="3902" y="56"/>
                </a:lnTo>
                <a:lnTo>
                  <a:pt x="4030" y="90"/>
                </a:lnTo>
                <a:lnTo>
                  <a:pt x="4123" y="118"/>
                </a:lnTo>
                <a:lnTo>
                  <a:pt x="4216" y="132"/>
                </a:lnTo>
                <a:lnTo>
                  <a:pt x="4379" y="174"/>
                </a:lnTo>
                <a:lnTo>
                  <a:pt x="4542" y="209"/>
                </a:lnTo>
                <a:lnTo>
                  <a:pt x="4740" y="243"/>
                </a:lnTo>
                <a:lnTo>
                  <a:pt x="4997" y="278"/>
                </a:lnTo>
                <a:lnTo>
                  <a:pt x="5218" y="278"/>
                </a:lnTo>
              </a:path>
            </a:pathLst>
          </a:custGeom>
          <a:noFill/>
          <a:ln cap="rnd" w="1260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178840" y="4437000"/>
            <a:ext cx="127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3480" y="878040"/>
            <a:ext cx="969012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rodaja in dobički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v času življenja izdelka/storitve od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uvedbe na trg do opustitv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84080" y="1676160"/>
            <a:ext cx="83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Razvoj in testiranje koncepta podjema/izdelka/ storit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zdelava npr. treh alternativnih koncept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ziskava in izbor najboljšega koncepta: preverjanje razumljivosti koncepta izdelka/storitve, ugotavljanje interesa za izdelek/storitev. Pri tem uporabljate tehnike raziskovanja, ki jih poznate iz trženja (npr. globinski intervju, ankete, intervju, opazovanje …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84080" y="1371240"/>
            <a:ext cx="8544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Razvoj koncepta podjema/izdelka/ stori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gmentacija tr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korak: kdo (demografsko)/kje (geografsko) kupuje izdelek -  primarni segm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velikosti tr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Korak: Natančnejša segmentacija: kdo, kje, kdaj, zakaj, kako, nakupno obnašanje itd.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potenciala (koliko je mogoče prodat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aliza konkure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stoječi in potencialni konkur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WOT ana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443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3040" y="18288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r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ED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n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ILOŽ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ET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tere so branljive konkurenč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402920" y="228600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06560" y="2286000"/>
            <a:ext cx="3054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238040" y="419112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4191120"/>
            <a:ext cx="305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54576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43040" y="1828440"/>
            <a:ext cx="87501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oja ide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d kod zamisel za ta podjem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oja ide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zadje izbran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iranje koncepta izdelka/storit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delava treh alternativnih konceptov ist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marna raziskava/test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bor najboljše  inačic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žno vrednotenje ide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28760" y="35053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. Vinko Zupanči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568520" y="1905120"/>
            <a:ext cx="833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Razvoj koncepta izdelka/storitv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egmentacija in ocena velikosti trga ter tržneg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tenciala za celoten trg in izbrane tržne segm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aliza konkurence in ocena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SWOT 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zvoj novih izdelkov/storit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17600" y="4267080"/>
            <a:ext cx="36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. Vinko Zupanči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3600" y="-360"/>
            <a:ext cx="678816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trategije razvoja novih storite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0200" y="1076400"/>
            <a:ext cx="8505720" cy="5117760"/>
            <a:chOff x="700200" y="1076400"/>
            <a:chExt cx="8505720" cy="5117760"/>
          </a:xfrm>
        </p:grpSpPr>
        <p:sp>
          <p:nvSpPr>
            <p:cNvPr id="114" name=""/>
            <p:cNvSpPr/>
            <p:nvPr/>
          </p:nvSpPr>
          <p:spPr>
            <a:xfrm>
              <a:off x="700200" y="1076400"/>
              <a:ext cx="8505720" cy="1047600"/>
            </a:xfrm>
            <a:prstGeom prst="cube">
              <a:avLst>
                <a:gd name="adj" fmla="val 24949"/>
              </a:avLst>
            </a:prstGeom>
            <a:gradFill rotWithShape="0">
              <a:gsLst>
                <a:gs pos="0">
                  <a:srgbClr val="fcfeb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40800" y="2205360"/>
              <a:ext cx="253152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virni izdelki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42600" y="3226320"/>
              <a:ext cx="252324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boljšave izdelkov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6120" y="425592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prememb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ov/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22080" y="5289840"/>
              <a:ext cx="252828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ove  blagov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znam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4080" y="2238840"/>
              <a:ext cx="253116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odjeti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5520" y="3260160"/>
              <a:ext cx="252360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atento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39400" y="428940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lice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400" y="1278000"/>
              <a:ext cx="810252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2700" spc="-1" strike="noStrike">
                  <a:solidFill>
                    <a:srgbClr val="000000"/>
                  </a:solidFill>
                  <a:latin typeface="Arial"/>
                </a:rPr>
                <a:t>Strategije za pridobivanje zamisli o novih izdelkih/storitvah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28680"/>
            <a:ext cx="8915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j so novi izdelki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62632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i izdelki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ve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 v svetovnem meril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ustvarjajo poplnoma novi t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a skupina izdelkov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djetj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mogočijo, da prvič nastopi na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m tr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Dodatki k že obstoječim skupinam izdel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z boljšim delovanjem ali večj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rednostjo v očeh kupca, ki nadomestijo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Ponovno pozicioniranj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obstoječ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jih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merimo na nove trge ali v nove tržne seg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Znižanje stroš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s podobnim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lovanjem, vendar nižjimi stroš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5240" y="228600"/>
            <a:ext cx="8750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kaj novi izdelki/storitve doživijo neuspe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4080" y="16002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odilni lahko kljub negativnim rezultatom tržnih raziskav vztrajajo pri uresničitvi zamisli o izdel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Zamisel je dobra, a velikost trga precenj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i dobro oblikova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zicioniranje izdelk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a trgu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apačno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 oglaševanje ne trgu ni uspešno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i p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je predr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 pokrije zadosti tržneg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stora ali pa nima podpore z distribuc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oški razvoja so višji od pričakovan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dziv konkurentov je močnejši, kot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ičakova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31672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06480" y="1722600"/>
            <a:ext cx="8226000" cy="3556440"/>
            <a:chOff x="906480" y="1722600"/>
            <a:chExt cx="8226000" cy="3556440"/>
          </a:xfrm>
        </p:grpSpPr>
        <p:grpSp>
          <p:nvGrpSpPr>
            <p:cNvPr id="129" name=""/>
            <p:cNvGrpSpPr/>
            <p:nvPr/>
          </p:nvGrpSpPr>
          <p:grpSpPr>
            <a:xfrm>
              <a:off x="3132720" y="2739600"/>
              <a:ext cx="3487320" cy="2364480"/>
              <a:chOff x="3132720" y="2739600"/>
              <a:chExt cx="3487320" cy="23644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020120" y="3202200"/>
                <a:ext cx="1830600" cy="1901880"/>
                <a:chOff x="4020120" y="3202200"/>
                <a:chExt cx="1830600" cy="1901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020120" y="3202200"/>
                  <a:ext cx="1830600" cy="1452960"/>
                </a:xfrm>
                <a:custGeom>
                  <a:avLst/>
                  <a:gdLst/>
                  <a:ahLst/>
                  <a:rect l="l" t="t" r="r" b="b"/>
                  <a:pathLst>
                    <a:path w="1171" h="1037">
                      <a:moveTo>
                        <a:pt x="180" y="681"/>
                      </a:moveTo>
                      <a:lnTo>
                        <a:pt x="128" y="624"/>
                      </a:lnTo>
                      <a:lnTo>
                        <a:pt x="63" y="553"/>
                      </a:lnTo>
                      <a:lnTo>
                        <a:pt x="21" y="495"/>
                      </a:lnTo>
                      <a:lnTo>
                        <a:pt x="0" y="422"/>
                      </a:lnTo>
                      <a:lnTo>
                        <a:pt x="0" y="358"/>
                      </a:lnTo>
                      <a:lnTo>
                        <a:pt x="21" y="268"/>
                      </a:lnTo>
                      <a:lnTo>
                        <a:pt x="69" y="197"/>
                      </a:lnTo>
                      <a:lnTo>
                        <a:pt x="150" y="123"/>
                      </a:lnTo>
                      <a:lnTo>
                        <a:pt x="258" y="69"/>
                      </a:lnTo>
                      <a:lnTo>
                        <a:pt x="351" y="36"/>
                      </a:lnTo>
                      <a:lnTo>
                        <a:pt x="456" y="11"/>
                      </a:lnTo>
                      <a:lnTo>
                        <a:pt x="602" y="0"/>
                      </a:lnTo>
                      <a:lnTo>
                        <a:pt x="738" y="11"/>
                      </a:lnTo>
                      <a:lnTo>
                        <a:pt x="824" y="32"/>
                      </a:lnTo>
                      <a:lnTo>
                        <a:pt x="919" y="66"/>
                      </a:lnTo>
                      <a:lnTo>
                        <a:pt x="990" y="102"/>
                      </a:lnTo>
                      <a:lnTo>
                        <a:pt x="1055" y="151"/>
                      </a:lnTo>
                      <a:lnTo>
                        <a:pt x="1096" y="193"/>
                      </a:lnTo>
                      <a:lnTo>
                        <a:pt x="1130" y="242"/>
                      </a:lnTo>
                      <a:lnTo>
                        <a:pt x="1154" y="296"/>
                      </a:lnTo>
                      <a:lnTo>
                        <a:pt x="1170" y="359"/>
                      </a:lnTo>
                      <a:lnTo>
                        <a:pt x="1165" y="426"/>
                      </a:lnTo>
                      <a:lnTo>
                        <a:pt x="1135" y="486"/>
                      </a:lnTo>
                      <a:lnTo>
                        <a:pt x="1096" y="557"/>
                      </a:lnTo>
                      <a:lnTo>
                        <a:pt x="1030" y="632"/>
                      </a:lnTo>
                      <a:lnTo>
                        <a:pt x="995" y="681"/>
                      </a:lnTo>
                      <a:lnTo>
                        <a:pt x="960" y="743"/>
                      </a:lnTo>
                      <a:lnTo>
                        <a:pt x="924" y="817"/>
                      </a:lnTo>
                      <a:lnTo>
                        <a:pt x="901" y="880"/>
                      </a:lnTo>
                      <a:lnTo>
                        <a:pt x="884" y="950"/>
                      </a:lnTo>
                      <a:lnTo>
                        <a:pt x="884" y="1036"/>
                      </a:lnTo>
                      <a:lnTo>
                        <a:pt x="334" y="1036"/>
                      </a:lnTo>
                      <a:lnTo>
                        <a:pt x="334" y="967"/>
                      </a:lnTo>
                      <a:lnTo>
                        <a:pt x="304" y="875"/>
                      </a:lnTo>
                      <a:lnTo>
                        <a:pt x="269" y="808"/>
                      </a:lnTo>
                      <a:lnTo>
                        <a:pt x="226" y="740"/>
                      </a:lnTo>
                      <a:lnTo>
                        <a:pt x="180" y="68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4540680" y="4626720"/>
                  <a:ext cx="861120" cy="477360"/>
                  <a:chOff x="4540680" y="4626720"/>
                  <a:chExt cx="861120" cy="4773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4679280" y="5046840"/>
                    <a:ext cx="558000" cy="5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540680" y="4626720"/>
                    <a:ext cx="86112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6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120" y="95"/>
                        </a:lnTo>
                        <a:lnTo>
                          <a:pt x="550" y="32"/>
                        </a:lnTo>
                        <a:lnTo>
                          <a:pt x="55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540680" y="4671360"/>
                    <a:ext cx="8611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7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6"/>
                        </a:lnTo>
                        <a:lnTo>
                          <a:pt x="120" y="126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540680" y="4759560"/>
                    <a:ext cx="86112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8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7"/>
                        </a:lnTo>
                        <a:lnTo>
                          <a:pt x="120" y="127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540680" y="4848120"/>
                    <a:ext cx="861120" cy="18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30">
                        <a:moveTo>
                          <a:pt x="120" y="65"/>
                        </a:moveTo>
                        <a:lnTo>
                          <a:pt x="106" y="65"/>
                        </a:lnTo>
                        <a:lnTo>
                          <a:pt x="0" y="65"/>
                        </a:lnTo>
                        <a:lnTo>
                          <a:pt x="0" y="129"/>
                        </a:lnTo>
                        <a:lnTo>
                          <a:pt x="120" y="129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540680" y="4937400"/>
                    <a:ext cx="86112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8">
                        <a:moveTo>
                          <a:pt x="120" y="65"/>
                        </a:moveTo>
                        <a:lnTo>
                          <a:pt x="0" y="65"/>
                        </a:lnTo>
                        <a:lnTo>
                          <a:pt x="60" y="97"/>
                        </a:lnTo>
                        <a:lnTo>
                          <a:pt x="488" y="97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"/>
              <p:cNvGrpSpPr/>
              <p:nvPr/>
            </p:nvGrpSpPr>
            <p:grpSpPr>
              <a:xfrm>
                <a:off x="3132720" y="2739600"/>
                <a:ext cx="3487320" cy="1497240"/>
                <a:chOff x="3132720" y="2739600"/>
                <a:chExt cx="3487320" cy="1497240"/>
              </a:xfrm>
            </p:grpSpPr>
            <p:sp>
              <p:nvSpPr>
                <p:cNvPr id="140" name=""/>
                <p:cNvSpPr/>
                <p:nvPr/>
              </p:nvSpPr>
              <p:spPr>
                <a:xfrm flipH="1">
                  <a:off x="5459760" y="2928600"/>
                  <a:ext cx="371880" cy="25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5309640" y="2990520"/>
                  <a:ext cx="17172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5101920" y="2767680"/>
                  <a:ext cx="124920" cy="32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930200" y="2949840"/>
                  <a:ext cx="108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90800" y="2739600"/>
                  <a:ext cx="29520" cy="34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4431240" y="2938320"/>
                  <a:ext cx="117000" cy="20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4052880" y="2819160"/>
                  <a:ext cx="323640" cy="41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999960" y="3123000"/>
                  <a:ext cx="182880" cy="18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520080" y="3138480"/>
                  <a:ext cx="540720" cy="26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3620160" y="3362760"/>
                  <a:ext cx="304200" cy="140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>
                  <a:off x="3229200" y="3448440"/>
                  <a:ext cx="65808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3501360" y="3647160"/>
                  <a:ext cx="34416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>
                  <a:off x="3132720" y="3770640"/>
                  <a:ext cx="714240" cy="86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3545280" y="3973680"/>
                  <a:ext cx="3045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3174840" y="4096800"/>
                  <a:ext cx="812880" cy="11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3836880" y="4224600"/>
                  <a:ext cx="24876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5819760" y="3081240"/>
                  <a:ext cx="399960" cy="25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5958720" y="3305160"/>
                  <a:ext cx="16380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996160" y="3386880"/>
                  <a:ext cx="53316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6035760" y="3588120"/>
                  <a:ext cx="21852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6037200" y="3714480"/>
                  <a:ext cx="582840" cy="85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40080" y="3918960"/>
                  <a:ext cx="1810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902560" y="4043880"/>
                  <a:ext cx="689040" cy="11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788440" y="4168440"/>
                  <a:ext cx="13896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5643360" y="3154320"/>
                  <a:ext cx="21528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1665720" y="4705560"/>
              <a:ext cx="1432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Gener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6480" y="3740040"/>
              <a:ext cx="9878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reso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56600" y="2526480"/>
              <a:ext cx="12319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 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ncep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38360" y="1722600"/>
              <a:ext cx="12164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s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51600" y="1722600"/>
              <a:ext cx="1243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oslovn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anali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0840" y="2619000"/>
              <a:ext cx="92556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40240" y="3740040"/>
              <a:ext cx="9133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23200" y="4768560"/>
              <a:ext cx="2609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mercializac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0360" y="4267080"/>
              <a:ext cx="378000" cy="442440"/>
            </a:xfrm>
            <a:custGeom>
              <a:avLst/>
              <a:gdLst/>
              <a:ahLst/>
              <a:rect l="l" t="t" r="r" b="b"/>
              <a:pathLst>
                <a:path w="242" h="316">
                  <a:moveTo>
                    <a:pt x="241" y="315"/>
                  </a:moveTo>
                  <a:lnTo>
                    <a:pt x="185" y="264"/>
                  </a:lnTo>
                  <a:lnTo>
                    <a:pt x="140" y="208"/>
                  </a:lnTo>
                  <a:lnTo>
                    <a:pt x="93" y="153"/>
                  </a:lnTo>
                  <a:lnTo>
                    <a:pt x="54" y="88"/>
                  </a:lnTo>
                  <a:lnTo>
                    <a:pt x="16" y="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02040" y="3311640"/>
              <a:ext cx="132480" cy="471960"/>
            </a:xfrm>
            <a:custGeom>
              <a:avLst/>
              <a:gdLst/>
              <a:ahLst/>
              <a:rect l="l" t="t" r="r" b="b"/>
              <a:pathLst>
                <a:path w="85" h="337">
                  <a:moveTo>
                    <a:pt x="0" y="336"/>
                  </a:moveTo>
                  <a:lnTo>
                    <a:pt x="0" y="270"/>
                  </a:lnTo>
                  <a:lnTo>
                    <a:pt x="15" y="197"/>
                  </a:lnTo>
                  <a:lnTo>
                    <a:pt x="31" y="123"/>
                  </a:lnTo>
                  <a:lnTo>
                    <a:pt x="61" y="45"/>
                  </a:lnTo>
                  <a:lnTo>
                    <a:pt x="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46160" y="2246400"/>
              <a:ext cx="582840" cy="319320"/>
            </a:xfrm>
            <a:custGeom>
              <a:avLst/>
              <a:gdLst/>
              <a:ahLst/>
              <a:rect l="l" t="t" r="r" b="b"/>
              <a:pathLst>
                <a:path w="373" h="228">
                  <a:moveTo>
                    <a:pt x="0" y="227"/>
                  </a:moveTo>
                  <a:lnTo>
                    <a:pt x="85" y="167"/>
                  </a:lnTo>
                  <a:lnTo>
                    <a:pt x="186" y="107"/>
                  </a:lnTo>
                  <a:lnTo>
                    <a:pt x="264" y="65"/>
                  </a:lnTo>
                  <a:lnTo>
                    <a:pt x="37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55120" y="1798200"/>
              <a:ext cx="1542600" cy="53280"/>
            </a:xfrm>
            <a:custGeom>
              <a:avLst/>
              <a:gdLst/>
              <a:ahLst/>
              <a:rect l="l" t="t" r="r" b="b"/>
              <a:pathLst>
                <a:path w="987" h="38">
                  <a:moveTo>
                    <a:pt x="0" y="37"/>
                  </a:moveTo>
                  <a:lnTo>
                    <a:pt x="155" y="19"/>
                  </a:lnTo>
                  <a:lnTo>
                    <a:pt x="303" y="14"/>
                  </a:lnTo>
                  <a:lnTo>
                    <a:pt x="481" y="0"/>
                  </a:lnTo>
                  <a:lnTo>
                    <a:pt x="629" y="0"/>
                  </a:lnTo>
                  <a:lnTo>
                    <a:pt x="815" y="14"/>
                  </a:lnTo>
                  <a:lnTo>
                    <a:pt x="986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01800" y="2214360"/>
              <a:ext cx="669240" cy="351720"/>
            </a:xfrm>
            <a:custGeom>
              <a:avLst/>
              <a:gdLst/>
              <a:ahLst/>
              <a:rect l="l" t="t" r="r" b="b"/>
              <a:pathLst>
                <a:path w="428" h="251">
                  <a:moveTo>
                    <a:pt x="0" y="0"/>
                  </a:moveTo>
                  <a:lnTo>
                    <a:pt x="132" y="65"/>
                  </a:lnTo>
                  <a:lnTo>
                    <a:pt x="233" y="120"/>
                  </a:lnTo>
                  <a:lnTo>
                    <a:pt x="326" y="181"/>
                  </a:lnTo>
                  <a:lnTo>
                    <a:pt x="427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52800" y="3155760"/>
              <a:ext cx="170280" cy="573120"/>
            </a:xfrm>
            <a:custGeom>
              <a:avLst/>
              <a:gdLst/>
              <a:ahLst/>
              <a:rect l="l" t="t" r="r" b="b"/>
              <a:pathLst>
                <a:path w="109" h="409">
                  <a:moveTo>
                    <a:pt x="0" y="0"/>
                  </a:moveTo>
                  <a:lnTo>
                    <a:pt x="39" y="70"/>
                  </a:lnTo>
                  <a:lnTo>
                    <a:pt x="69" y="153"/>
                  </a:lnTo>
                  <a:lnTo>
                    <a:pt x="85" y="223"/>
                  </a:lnTo>
                  <a:lnTo>
                    <a:pt x="108" y="311"/>
                  </a:lnTo>
                  <a:lnTo>
                    <a:pt x="108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120" y="4259880"/>
              <a:ext cx="389520" cy="437040"/>
            </a:xfrm>
            <a:custGeom>
              <a:avLst/>
              <a:gdLst/>
              <a:ahLst/>
              <a:rect l="l" t="t" r="r" b="b"/>
              <a:pathLst>
                <a:path w="249" h="312">
                  <a:moveTo>
                    <a:pt x="248" y="0"/>
                  </a:moveTo>
                  <a:lnTo>
                    <a:pt x="217" y="65"/>
                  </a:lnTo>
                  <a:lnTo>
                    <a:pt x="178" y="111"/>
                  </a:lnTo>
                  <a:lnTo>
                    <a:pt x="132" y="181"/>
                  </a:lnTo>
                  <a:lnTo>
                    <a:pt x="78" y="246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60640" y="5916600"/>
            <a:ext cx="1949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4360" y="5916600"/>
            <a:ext cx="2963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-54720" y="3928320"/>
            <a:ext cx="26445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b760f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25520" y="442908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2383200" y="3926520"/>
            <a:ext cx="2643120" cy="19940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onkur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18080" y="4402080"/>
            <a:ext cx="546120" cy="99864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796640" y="3893400"/>
            <a:ext cx="264168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d9319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istributer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54920" y="431640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7251480" y="3913200"/>
            <a:ext cx="26463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70"/>
              </a:gs>
              <a:gs pos="100000">
                <a:srgbClr val="fdfd7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av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84240" y="0"/>
            <a:ext cx="793584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1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Generiranje idej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6120" y="1609560"/>
            <a:ext cx="92934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6767ff"/>
                </a:solidFill>
                <a:latin typeface="Arial"/>
              </a:rPr>
              <a:t>Generiranje idej</a:t>
            </a:r>
            <a:r>
              <a:rPr b="1" lang="en-GB" sz="2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je sistematično iskanje idej za nove izdelke pri zaposlenih in tudi od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49160" y="1479240"/>
            <a:ext cx="8407440" cy="51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oce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pozn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nj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ob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dej 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rej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nj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zklj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lab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j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noga podjetja so razvila sisteme za vrednotenje idej, ki presoj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Velikost trg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Ceno izdelk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Čas in stroške razvoj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roške proizvodnj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opnjo vračil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0040" y="33480"/>
            <a:ext cx="7937640" cy="8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Presoja idej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09-19T15:17:23Z</dcterms:modified>
  <cp:revision>8</cp:revision>
  <dc:subject/>
  <dc:title>Diapozitiv 1</dc:title>
</cp:coreProperties>
</file>